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86440" cy="10018800"/>
          </a:xfrm>
          <a:custGeom>
            <a:avLst/>
            <a:gdLst>
              <a:gd name="textAreaLeft" fmla="*/ 360 w 6886440"/>
              <a:gd name="textAreaRight" fmla="*/ 6886080 w 6886440"/>
              <a:gd name="textAreaTop" fmla="*/ 360 h 10018800"/>
              <a:gd name="textAreaBottom" fmla="*/ 10018440 h 10018800"/>
            </a:gdLst>
            <a:ahLst/>
            <a:rect l="textAreaLeft" t="textAreaTop" r="textAreaRight" b="textAreaBottom"/>
            <a:pathLst>
              <a:path w="21600" h="31424">
                <a:moveTo>
                  <a:pt x="4" y="0"/>
                </a:moveTo>
                <a:arcTo wR="4" hR="4" stAng="16200000" swAng="-5400000"/>
                <a:lnTo>
                  <a:pt x="0" y="31420"/>
                </a:lnTo>
                <a:arcTo wR="4" hR="4" stAng="10800000" swAng="-5400000"/>
                <a:lnTo>
                  <a:pt x="21596" y="3142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86440" cy="10018800"/>
          </a:xfrm>
          <a:custGeom>
            <a:avLst/>
            <a:gdLst>
              <a:gd name="textAreaLeft" fmla="*/ 360 w 6886440"/>
              <a:gd name="textAreaRight" fmla="*/ 6886080 w 6886440"/>
              <a:gd name="textAreaTop" fmla="*/ 360 h 10018800"/>
              <a:gd name="textAreaBottom" fmla="*/ 10018440 h 10018800"/>
            </a:gdLst>
            <a:ahLst/>
            <a:rect l="textAreaLeft" t="textAreaTop" r="textAreaRight" b="textAreaBottom"/>
            <a:pathLst>
              <a:path w="21600" h="31424">
                <a:moveTo>
                  <a:pt x="4" y="0"/>
                </a:moveTo>
                <a:arcTo wR="4" hR="4" stAng="16200000" swAng="-5400000"/>
                <a:lnTo>
                  <a:pt x="0" y="31420"/>
                </a:lnTo>
                <a:arcTo wR="4" hR="4" stAng="10800000" swAng="-5400000"/>
                <a:lnTo>
                  <a:pt x="21596" y="3142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886440" cy="10018800"/>
          </a:xfrm>
          <a:custGeom>
            <a:avLst/>
            <a:gdLst>
              <a:gd name="textAreaLeft" fmla="*/ 360 w 6886440"/>
              <a:gd name="textAreaRight" fmla="*/ 6886080 w 6886440"/>
              <a:gd name="textAreaTop" fmla="*/ 360 h 10018800"/>
              <a:gd name="textAreaBottom" fmla="*/ 10018440 h 10018800"/>
            </a:gdLst>
            <a:ahLst/>
            <a:rect l="textAreaLeft" t="textAreaTop" r="textAreaRight" b="textAreaBottom"/>
            <a:pathLst>
              <a:path w="21600" h="31424">
                <a:moveTo>
                  <a:pt x="4" y="0"/>
                </a:moveTo>
                <a:arcTo wR="4" hR="4" stAng="16200000" swAng="-5400000"/>
                <a:lnTo>
                  <a:pt x="0" y="31420"/>
                </a:lnTo>
                <a:arcTo wR="4" hR="4" stAng="10800000" swAng="-5400000"/>
                <a:lnTo>
                  <a:pt x="21596" y="3142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86440" cy="10018800"/>
          </a:xfrm>
          <a:custGeom>
            <a:avLst/>
            <a:gdLst>
              <a:gd name="textAreaLeft" fmla="*/ 360 w 6886440"/>
              <a:gd name="textAreaRight" fmla="*/ 6886080 w 6886440"/>
              <a:gd name="textAreaTop" fmla="*/ 360 h 10018800"/>
              <a:gd name="textAreaBottom" fmla="*/ 10018440 h 10018800"/>
            </a:gdLst>
            <a:ahLst/>
            <a:rect l="textAreaLeft" t="textAreaTop" r="textAreaRight" b="textAreaBottom"/>
            <a:pathLst>
              <a:path w="21600" h="31424">
                <a:moveTo>
                  <a:pt x="4" y="0"/>
                </a:moveTo>
                <a:arcTo wR="4" hR="4" stAng="16200000" swAng="-5400000"/>
                <a:lnTo>
                  <a:pt x="0" y="31420"/>
                </a:lnTo>
                <a:arcTo wR="4" hR="4" stAng="10800000" swAng="-5400000"/>
                <a:lnTo>
                  <a:pt x="21596" y="3142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86440" cy="10018800"/>
          </a:xfrm>
          <a:custGeom>
            <a:avLst/>
            <a:gdLst>
              <a:gd name="textAreaLeft" fmla="*/ 360 w 6886440"/>
              <a:gd name="textAreaRight" fmla="*/ 6886080 w 6886440"/>
              <a:gd name="textAreaTop" fmla="*/ 360 h 10018800"/>
              <a:gd name="textAreaBottom" fmla="*/ 10018440 h 10018800"/>
            </a:gdLst>
            <a:ahLst/>
            <a:rect l="textAreaLeft" t="textAreaTop" r="textAreaRight" b="textAreaBottom"/>
            <a:pathLst>
              <a:path w="21600" h="31424">
                <a:moveTo>
                  <a:pt x="4" y="0"/>
                </a:moveTo>
                <a:arcTo wR="4" hR="4" stAng="16200000" swAng="-5400000"/>
                <a:lnTo>
                  <a:pt x="0" y="31420"/>
                </a:lnTo>
                <a:arcTo wR="4" hR="4" stAng="10800000" swAng="-5400000"/>
                <a:lnTo>
                  <a:pt x="21596" y="3142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86440" cy="10018800"/>
          </a:xfrm>
          <a:custGeom>
            <a:avLst/>
            <a:gdLst>
              <a:gd name="textAreaLeft" fmla="*/ 360 w 6886440"/>
              <a:gd name="textAreaRight" fmla="*/ 6886080 w 6886440"/>
              <a:gd name="textAreaTop" fmla="*/ 360 h 10018800"/>
              <a:gd name="textAreaBottom" fmla="*/ 10018440 h 10018800"/>
            </a:gdLst>
            <a:ahLst/>
            <a:rect l="textAreaLeft" t="textAreaTop" r="textAreaRight" b="textAreaBottom"/>
            <a:pathLst>
              <a:path w="21600" h="31424">
                <a:moveTo>
                  <a:pt x="4" y="0"/>
                </a:moveTo>
                <a:arcTo wR="4" hR="4" stAng="16200000" swAng="-5400000"/>
                <a:lnTo>
                  <a:pt x="0" y="31420"/>
                </a:lnTo>
                <a:arcTo wR="4" hR="4" stAng="10800000" swAng="-5400000"/>
                <a:lnTo>
                  <a:pt x="21596" y="3142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86440" cy="10018800"/>
          </a:xfrm>
          <a:custGeom>
            <a:avLst/>
            <a:gdLst>
              <a:gd name="textAreaLeft" fmla="*/ 360 w 6886440"/>
              <a:gd name="textAreaRight" fmla="*/ 6886080 w 6886440"/>
              <a:gd name="textAreaTop" fmla="*/ 360 h 10018800"/>
              <a:gd name="textAreaBottom" fmla="*/ 10018440 h 10018800"/>
            </a:gdLst>
            <a:ahLst/>
            <a:rect l="textAreaLeft" t="textAreaTop" r="textAreaRight" b="textAreaBottom"/>
            <a:pathLst>
              <a:path w="21600" h="31424">
                <a:moveTo>
                  <a:pt x="4" y="0"/>
                </a:moveTo>
                <a:arcTo wR="4" hR="4" stAng="16200000" swAng="-5400000"/>
                <a:lnTo>
                  <a:pt x="0" y="31420"/>
                </a:lnTo>
                <a:arcTo wR="4" hR="4" stAng="10800000" swAng="-5400000"/>
                <a:lnTo>
                  <a:pt x="21596" y="3142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86440" cy="10018800"/>
          </a:xfrm>
          <a:custGeom>
            <a:avLst/>
            <a:gdLst>
              <a:gd name="textAreaLeft" fmla="*/ 360 w 6886440"/>
              <a:gd name="textAreaRight" fmla="*/ 6886080 w 6886440"/>
              <a:gd name="textAreaTop" fmla="*/ 360 h 10018800"/>
              <a:gd name="textAreaBottom" fmla="*/ 10018440 h 10018800"/>
            </a:gdLst>
            <a:ahLst/>
            <a:rect l="textAreaLeft" t="textAreaTop" r="textAreaRight" b="textAreaBottom"/>
            <a:pathLst>
              <a:path w="21600" h="31424">
                <a:moveTo>
                  <a:pt x="4" y="0"/>
                </a:moveTo>
                <a:arcTo wR="4" hR="4" stAng="16200000" swAng="-5400000"/>
                <a:lnTo>
                  <a:pt x="0" y="31420"/>
                </a:lnTo>
                <a:arcTo wR="4" hR="4" stAng="10800000" swAng="-5400000"/>
                <a:lnTo>
                  <a:pt x="21596" y="3142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0168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4997160" cy="37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8680" y="4758840"/>
            <a:ext cx="54975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951552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901680" y="951552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09826-DF5B-48B3-817F-40A966864E4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9CD05-17D3-41A4-9C59-F2983AB3BAD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020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41400" y="752400"/>
            <a:ext cx="5008680" cy="37562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7640" y="4759200"/>
            <a:ext cx="5052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DejaVu Sans"/>
              </a:rPr>
              <a:t>Un peu de physique:énergie=travail potentiel= nécessaire à toute activité et donc à tout accroissement de riches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DB755-8EAE-4537-AC65-9327B756450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9020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4990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A7A19-1966-48FB-8926-2E41A4F5AD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020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4990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46B3-A969-4BE5-86EA-711D8257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9116-EF95-4367-8188-C0BACDF6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44BA-1572-4F75-9623-5032407E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9920-92B1-446D-9240-86E6EDBC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E6B1-896E-4062-939C-B3372C3FB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1997-E712-428C-BDE8-5BD8C209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CE19-6246-4939-97B1-98C367EF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1B08-CFBF-4D3D-8091-4B5CDEC3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4780-E759-46B2-AE9D-967CBA93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F66A-6714-4014-882D-8B025B6B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8C63-9881-4E2C-ABF8-45845A99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3F0D-752A-4748-9B69-3CCA42D8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E17F-DA8D-4A6C-8DEF-6BD371D5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B181-5EA6-40A9-8058-C93E851E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AD50-102F-4B0D-BC7B-4DB9FD91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52D8-730F-451B-99B5-240084117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FBBB-7F12-45AC-A914-E4599154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8CF2-C9F6-4035-8A32-72C6ED6D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0A84-A976-449E-BFA5-0A376726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D339-818C-4593-A20C-0A60B2C9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1FF1-E522-4186-8337-6485F633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5BA5-7F88-4D7D-A0E2-5FF4C989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26B4-BB88-4309-9514-5395580E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A20E-411A-43F4-AAC3-CA6B4C75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076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28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12112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71A41-6DAD-4953-A492-CE563255D68C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2076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828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12112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3AEB87C-1C36-407B-8DBA-2E5FA19292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6040" y="314280"/>
            <a:ext cx="2883240" cy="6346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904000" y="3060720"/>
            <a:ext cx="3240000" cy="3813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3086280" y="201600"/>
            <a:ext cx="2314440" cy="2857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216480" y="185760"/>
            <a:ext cx="2822760" cy="2100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2F09-F68F-470F-9B43-8A1B4CB1C52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5582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Des sources d’énergi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74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Non-renouvelables :  charbon, pétrole, gaz (chimiqu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(87%)                uranium (fission nucléai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Renouvelables:         homme / animal / bioénerg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(13%)                hydraulique / éolien (mécaniqu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solaire (fusion nucléai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géothermie (thermiqu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NB: 1) Possibilités de stockage et de transpor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2) L’hydrogène </a:t>
            </a: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n’est pas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une source d’énerg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4951-A6C9-4B60-93A0-01022CDF890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9640" y="1557360"/>
            <a:ext cx="842508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Réserves en anné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alculées à partir de la consommation actue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étrole et gaz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≈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30 à 50 a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harbon et  produits  lourds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≈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2 à 300 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stimations en années très peu fiables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technique utilisée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dépendantes des prix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discrétion des compagnies pétroliè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290520"/>
            <a:ext cx="75582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qui s’épuis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02AD-9B7D-41C2-A650-A778F203864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12760" y="390600"/>
            <a:ext cx="8569440" cy="586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0CEE-BE6E-49A9-956C-5544F3C225A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440" y="274320"/>
            <a:ext cx="86868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Énergie : quatre questions insépar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6560" y="1886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 algn="just">
              <a:lnSpc>
                <a:spcPct val="120000"/>
              </a:lnSpc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b2b2b2"/>
                </a:solidFill>
                <a:latin typeface="Arial"/>
              </a:rPr>
              <a:t>Un besoin v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just">
              <a:lnSpc>
                <a:spcPct val="120000"/>
              </a:lnSpc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b2b2b2"/>
                </a:solidFill>
                <a:latin typeface="Arial"/>
              </a:rPr>
              <a:t>Les inégalités d'accè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just">
              <a:lnSpc>
                <a:spcPct val="120000"/>
              </a:lnSpc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b2b2b2"/>
                </a:solidFill>
                <a:latin typeface="Arial"/>
              </a:rPr>
              <a:t>Des ressources qui s’épui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L’équilibre de notre envir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162C-D900-4D14-950D-DDAA0B672D9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08C7-178C-4139-BD45-2CAE9DA8ABF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064360" cy="6759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AD8B-0972-4B1C-8186-0DC97C43C51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1360" y="1031760"/>
            <a:ext cx="8529840" cy="5237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rot="1920000">
            <a:off x="6354360" y="636120"/>
            <a:ext cx="1695600" cy="371520"/>
          </a:xfrm>
          <a:prstGeom prst="rightArrow">
            <a:avLst>
              <a:gd name="adj1" fmla="val 50000"/>
              <a:gd name="adj2" fmla="val 11409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6267600"/>
            <a:ext cx="487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ttp://www.brighton73.freeserve.co.uk/gw/paleo/400000yrfig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0440" y="274320"/>
            <a:ext cx="86868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Température et CO2 (400 000 a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5F2E-C5DA-4963-9EB0-A0DB06BE9B5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1360" y="893880"/>
            <a:ext cx="8594640" cy="5276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rot="1920000">
            <a:off x="6392520" y="417240"/>
            <a:ext cx="1695600" cy="371520"/>
          </a:xfrm>
          <a:prstGeom prst="rightArrow">
            <a:avLst>
              <a:gd name="adj1" fmla="val 50000"/>
              <a:gd name="adj2" fmla="val 11409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6267600"/>
            <a:ext cx="487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ttp://www.brighton73.freeserve.co.uk/gw/paleo/20000yrfig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0440" y="274320"/>
            <a:ext cx="86868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Température et CO2 (20 000 a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BA42-DABD-4FB2-AB30-675AD8169A7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419120" y="1181160"/>
            <a:ext cx="6305760" cy="44956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 rot="1920000">
            <a:off x="4620960" y="3522600"/>
            <a:ext cx="1695240" cy="371520"/>
          </a:xfrm>
          <a:prstGeom prst="rightArrow">
            <a:avLst>
              <a:gd name="adj1" fmla="val 50000"/>
              <a:gd name="adj2" fmla="val 1140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0440" y="274320"/>
            <a:ext cx="86868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2 (1 000 a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6267600"/>
            <a:ext cx="487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i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0FFE-3DD7-4A8F-88BE-DB0BD6B14CC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0440" y="274320"/>
            <a:ext cx="86868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2 … quel fut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6267600"/>
            <a:ext cx="487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i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23960" y="909720"/>
            <a:ext cx="5419800" cy="559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A7E3-F5A8-4E9B-BFB6-9A8D168793C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40" y="274320"/>
            <a:ext cx="86868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Énergie : quatre questions insépar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Un besoin v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Les inégalités d'accè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Des ressources qui s’épui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L’équilibre de notre envir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Et des alternatives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889600" y="1533600"/>
            <a:ext cx="2933640" cy="1838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857920" y="3219480"/>
            <a:ext cx="300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http://www.meteo.fr/meteonet/decouvr/dossier/effetser/eff.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6300720"/>
            <a:ext cx="4859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ttp://jacques.weber.pagesperso-orange.fr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471C-1268-43FD-BA76-A43A91ACBD0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405080" y="1057320"/>
            <a:ext cx="6333840" cy="47433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0440" y="274320"/>
            <a:ext cx="86868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2 … quel fut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6267600"/>
            <a:ext cx="487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i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795A-5F14-40B9-98B2-99D5912AA3F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440" y="274320"/>
            <a:ext cx="86868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Énergie : quatre questions insépar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6560" y="1886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 algn="just">
              <a:lnSpc>
                <a:spcPct val="120000"/>
              </a:lnSpc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b2b2b2"/>
                </a:solidFill>
                <a:latin typeface="Arial"/>
              </a:rPr>
              <a:t>Un besoin v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just">
              <a:lnSpc>
                <a:spcPct val="120000"/>
              </a:lnSpc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b2b2b2"/>
                </a:solidFill>
                <a:latin typeface="Arial"/>
              </a:rPr>
              <a:t>Les inégalités d'accè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just">
              <a:lnSpc>
                <a:spcPct val="120000"/>
              </a:lnSpc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b2b2b2"/>
                </a:solidFill>
                <a:latin typeface="Arial"/>
              </a:rPr>
              <a:t>Des ressources qui s’épui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just">
              <a:lnSpc>
                <a:spcPct val="120000"/>
              </a:lnSpc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b2b2b2"/>
                </a:solidFill>
                <a:latin typeface="Arial"/>
              </a:rPr>
              <a:t>L’équilibre de notre envir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Les altern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C3D8-BD79-4A98-A7CB-6605093CCB6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Éléments pour un déba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14440"/>
            <a:ext cx="8229600" cy="38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 ne remplacera pas les centrales nucléaires par des éoliennes ; au plus un quart de la puissance installée sur un réseau (sources intermitten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relance massive des programmes électronucléaires à l’échelle mondiale (triplement) ne résoudra ni la question climatique (baisse de 9% du CO2) ni la crise pétrolière (transpor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déchets, risques d’accidents ou d’attentats ne sont pas des questions secondai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5920" y="1238400"/>
            <a:ext cx="8877240" cy="10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ff0000"/>
                </a:solidFill>
                <a:latin typeface="Arial"/>
              </a:rPr>
              <a:t>des faits qui peuvent être contradictoi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3BEB-00AE-4AE7-9DB3-CD29313FEE7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Éléments pour un déba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14440"/>
            <a:ext cx="8229600" cy="38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unités de production électrique centralisées sont mal adaptées à des centres de consommation extrêmement répartis ( transport et distrib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unités de production décentralisées doi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’appuyer sur un réseau de transport pour assurer la continuité du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éviter la mise en concurrence des territoires en fonction de leurs ressources plus ou moins access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5920" y="1238400"/>
            <a:ext cx="8877240" cy="10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ff0000"/>
                </a:solidFill>
                <a:latin typeface="Arial"/>
              </a:rPr>
              <a:t>des faits qui peuvent être contradictoi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9CB5-7BE4-4B9E-9132-476BDC3B480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Éléments pour un déba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314440"/>
            <a:ext cx="8229600" cy="38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'électricité : une composante du problème (22% de l’énergie finale en France et dans les pays rich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a consommation d'énergie : 75% de l'effet de ser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a question énergétique (les transports) remet en cause l’organisation des villes, les politiques de flux tendu, le tourisme (compagnies « </a:t>
            </a:r>
            <a:r>
              <a:rPr b="0" i="1" lang="fr-FR" sz="2600" spc="-1" strike="noStrike">
                <a:solidFill>
                  <a:srgbClr val="000000"/>
                </a:solidFill>
                <a:latin typeface="Arial"/>
              </a:rPr>
              <a:t>low cost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 »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On ne remplacera pas le pétrole par des biocarburants : quatre fois la surface cultivable de la planè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5920" y="1238400"/>
            <a:ext cx="8877240" cy="10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ff0000"/>
                </a:solidFill>
                <a:latin typeface="Arial"/>
              </a:rPr>
              <a:t>des faits qui peuvent être contradictoi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75E1-0A19-44F7-9578-3D67EC416F9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Éléments pour un déba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314440"/>
            <a:ext cx="8229600" cy="38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’énergie n’est pas une fin en soi, l’accès concerne les services rendus par l’éner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3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3360" indent="-33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aire un état des lieux des usages de l’é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ettre en débat tous les acteurs concernés : citoyens, entreprises du système énergétique, experts, responsables politiques locaux, nationaux et europé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238400"/>
            <a:ext cx="9144000" cy="10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ff0000"/>
                </a:solidFill>
                <a:latin typeface="Arial"/>
              </a:rPr>
              <a:t>face aux contradictions : une autre logique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0BE0-3179-4F25-AB2C-E3B707D9EBD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Éléments pour un déba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14440"/>
            <a:ext cx="8229600" cy="38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 algn="ctr">
              <a:spcBef>
                <a:spcPts val="799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s usages de l’énergie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 tiers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 sert à chauffe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es locaux (pour le secteur résidentiel, 80 % de son énergie est consacrée aux applications thermiqu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autre tiers sert aux 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transport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tiers restant comporte notamment les 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applications spécifiqu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e l’électric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238400"/>
            <a:ext cx="9144000" cy="10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ff0000"/>
                </a:solidFill>
                <a:latin typeface="Arial"/>
              </a:rPr>
              <a:t>face aux contradictions : une autre logique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6BAC-2ED5-4F6F-BFD5-2948A5BFCCC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63560" y="744480"/>
            <a:ext cx="7499520" cy="44276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52600" y="5600880"/>
            <a:ext cx="7800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volution des GES France – 2004 par rapport à 1990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Source MEDD/CITEP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FBAB-3851-4DC1-957A-0576AF53C11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90600" y="1081080"/>
            <a:ext cx="8004240" cy="498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Maisons pass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DA69-5448-4917-9BC9-4916A9F0807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Maisons pass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438200"/>
            <a:ext cx="7181640" cy="472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31E2-4011-43D1-A11B-C52221D89F4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Un besoin vi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6480000"/>
            <a:ext cx="51357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 N T E R N A T I O N A L E N E RGY A G E N CY :  </a:t>
            </a: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KEY WORLD  ENERGY  STATISTICS 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46160" y="1023840"/>
            <a:ext cx="7048440" cy="531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AD55-69DE-4834-B818-4AD22C49C78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80"/>
                </a:solidFill>
                <a:latin typeface="Arial"/>
                <a:ea typeface="Arial"/>
              </a:rPr>
              <a:t>Emissions de gaz à effet de serre par mode motorisé, en grammes d'équivalent carbone par passager.km. On constate que l'avion et la voiture sont à peu près au même niveau à distance égale.</a:t>
            </a:r>
            <a:br>
              <a:rPr sz="2000"/>
            </a:br>
            <a:r>
              <a:rPr b="0" lang="fr-FR" sz="2000" spc="-1" strike="noStrike">
                <a:solidFill>
                  <a:srgbClr val="000080"/>
                </a:solidFill>
                <a:latin typeface="Arial"/>
                <a:ea typeface="Arial"/>
              </a:rPr>
              <a:t>Sources : </a:t>
            </a:r>
            <a:r>
              <a:rPr b="0" lang="fr-FR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ADEME</a:t>
            </a:r>
            <a:r>
              <a:rPr b="0" lang="fr-FR" sz="2000" spc="-1" strike="noStrike">
                <a:solidFill>
                  <a:srgbClr val="000080"/>
                </a:solidFill>
                <a:latin typeface="Arial"/>
                <a:ea typeface="Arial"/>
              </a:rPr>
              <a:t>, </a:t>
            </a:r>
            <a:r>
              <a:rPr b="0" lang="fr-FR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INRETS</a:t>
            </a:r>
            <a:r>
              <a:rPr b="0" lang="fr-FR" sz="2000" spc="-1" strike="noStrike">
                <a:solidFill>
                  <a:srgbClr val="000080"/>
                </a:solidFill>
                <a:latin typeface="Arial"/>
                <a:ea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00280" y="14716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0769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46EF-6BD6-4EE3-8511-A2B00B5E1ED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Traffic aérien (source AD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39640" y="1341360"/>
            <a:ext cx="7993080" cy="5040360"/>
            <a:chOff x="539640" y="1341360"/>
            <a:chExt cx="7993080" cy="5040360"/>
          </a:xfrm>
        </p:grpSpPr>
        <p:grpSp>
          <p:nvGrpSpPr>
            <p:cNvPr id="179" name=""/>
            <p:cNvGrpSpPr/>
            <p:nvPr/>
          </p:nvGrpSpPr>
          <p:grpSpPr>
            <a:xfrm>
              <a:off x="549360" y="1344600"/>
              <a:ext cx="7972200" cy="5033880"/>
              <a:chOff x="549360" y="1344600"/>
              <a:chExt cx="7972200" cy="503388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549360" y="1344600"/>
                <a:ext cx="3444840" cy="573120"/>
                <a:chOff x="549360" y="1344600"/>
                <a:chExt cx="3444840" cy="5731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49360" y="1344600"/>
                  <a:ext cx="3444840" cy="573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2" name=""/>
                <p:cNvGrpSpPr/>
                <p:nvPr/>
              </p:nvGrpSpPr>
              <p:grpSpPr>
                <a:xfrm>
                  <a:off x="549360" y="1344600"/>
                  <a:ext cx="3444840" cy="573120"/>
                  <a:chOff x="549360" y="1344600"/>
                  <a:chExt cx="3444840" cy="573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628560" y="1344600"/>
                    <a:ext cx="3286080" cy="5731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1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Destination/Origin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49360" y="1344600"/>
                    <a:ext cx="3444840" cy="57312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5" name=""/>
              <p:cNvGrpSpPr/>
              <p:nvPr/>
            </p:nvGrpSpPr>
            <p:grpSpPr>
              <a:xfrm>
                <a:off x="3995640" y="1344600"/>
                <a:ext cx="2398680" cy="573120"/>
                <a:chOff x="3995640" y="1344600"/>
                <a:chExt cx="2398680" cy="5731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995640" y="1344600"/>
                  <a:ext cx="2398680" cy="573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7" name=""/>
                <p:cNvGrpSpPr/>
                <p:nvPr/>
              </p:nvGrpSpPr>
              <p:grpSpPr>
                <a:xfrm>
                  <a:off x="3995640" y="1344600"/>
                  <a:ext cx="2397240" cy="573120"/>
                  <a:chOff x="3995640" y="1344600"/>
                  <a:chExt cx="2397240" cy="57312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4075200" y="1344600"/>
                    <a:ext cx="2238120" cy="5731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1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assagers (M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3995640" y="1344600"/>
                    <a:ext cx="2397240" cy="57312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0" name=""/>
              <p:cNvGrpSpPr/>
              <p:nvPr/>
            </p:nvGrpSpPr>
            <p:grpSpPr>
              <a:xfrm>
                <a:off x="6394320" y="1344600"/>
                <a:ext cx="2127240" cy="573120"/>
                <a:chOff x="6394320" y="1344600"/>
                <a:chExt cx="2127240" cy="5731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6394320" y="1344600"/>
                  <a:ext cx="2127240" cy="573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2" name=""/>
                <p:cNvGrpSpPr/>
                <p:nvPr/>
              </p:nvGrpSpPr>
              <p:grpSpPr>
                <a:xfrm>
                  <a:off x="6394320" y="1344600"/>
                  <a:ext cx="2125800" cy="573120"/>
                  <a:chOff x="6394320" y="1344600"/>
                  <a:chExt cx="2125800" cy="57312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>
                    <a:off x="6473880" y="1344600"/>
                    <a:ext cx="1966680" cy="5731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1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Variation (an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6394320" y="1344600"/>
                    <a:ext cx="2125800" cy="57312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5" name=""/>
              <p:cNvGrpSpPr/>
              <p:nvPr/>
            </p:nvGrpSpPr>
            <p:grpSpPr>
              <a:xfrm>
                <a:off x="549360" y="1917720"/>
                <a:ext cx="3444840" cy="446040"/>
                <a:chOff x="549360" y="1917720"/>
                <a:chExt cx="3444840" cy="44604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549360" y="1917720"/>
                  <a:ext cx="344484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7" name=""/>
                <p:cNvGrpSpPr/>
                <p:nvPr/>
              </p:nvGrpSpPr>
              <p:grpSpPr>
                <a:xfrm>
                  <a:off x="549360" y="1917720"/>
                  <a:ext cx="3444840" cy="446040"/>
                  <a:chOff x="549360" y="1917720"/>
                  <a:chExt cx="3444840" cy="44604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628560" y="1917720"/>
                    <a:ext cx="328608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Métropol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549360" y="1917720"/>
                    <a:ext cx="344484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0" name=""/>
              <p:cNvGrpSpPr/>
              <p:nvPr/>
            </p:nvGrpSpPr>
            <p:grpSpPr>
              <a:xfrm>
                <a:off x="3995640" y="1917720"/>
                <a:ext cx="2398680" cy="446040"/>
                <a:chOff x="3995640" y="1917720"/>
                <a:chExt cx="2398680" cy="44604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3995640" y="1917720"/>
                  <a:ext cx="239868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2" name=""/>
                <p:cNvGrpSpPr/>
                <p:nvPr/>
              </p:nvGrpSpPr>
              <p:grpSpPr>
                <a:xfrm>
                  <a:off x="3995640" y="1917720"/>
                  <a:ext cx="2397240" cy="446040"/>
                  <a:chOff x="3995640" y="1917720"/>
                  <a:chExt cx="2397240" cy="44604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4075200" y="1917720"/>
                    <a:ext cx="223812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1,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995640" y="1917720"/>
                    <a:ext cx="239724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5" name=""/>
              <p:cNvGrpSpPr/>
              <p:nvPr/>
            </p:nvGrpSpPr>
            <p:grpSpPr>
              <a:xfrm>
                <a:off x="6394320" y="1917720"/>
                <a:ext cx="2127240" cy="446040"/>
                <a:chOff x="6394320" y="1917720"/>
                <a:chExt cx="2127240" cy="4460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6394320" y="1917720"/>
                  <a:ext cx="212724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7" name=""/>
                <p:cNvGrpSpPr/>
                <p:nvPr/>
              </p:nvGrpSpPr>
              <p:grpSpPr>
                <a:xfrm>
                  <a:off x="6394320" y="1917720"/>
                  <a:ext cx="2125800" cy="446040"/>
                  <a:chOff x="6394320" y="1917720"/>
                  <a:chExt cx="2125800" cy="44604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6473880" y="1917720"/>
                    <a:ext cx="196668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+ 6,3 %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6394320" y="1917720"/>
                    <a:ext cx="212580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0" name=""/>
              <p:cNvGrpSpPr/>
              <p:nvPr/>
            </p:nvGrpSpPr>
            <p:grpSpPr>
              <a:xfrm>
                <a:off x="549360" y="2363760"/>
                <a:ext cx="3444840" cy="446040"/>
                <a:chOff x="549360" y="2363760"/>
                <a:chExt cx="3444840" cy="4460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549360" y="2363760"/>
                  <a:ext cx="344484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2" name=""/>
                <p:cNvGrpSpPr/>
                <p:nvPr/>
              </p:nvGrpSpPr>
              <p:grpSpPr>
                <a:xfrm>
                  <a:off x="549360" y="2363760"/>
                  <a:ext cx="3444840" cy="446040"/>
                  <a:chOff x="549360" y="2363760"/>
                  <a:chExt cx="3444840" cy="4460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628560" y="2363760"/>
                    <a:ext cx="328608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Union Européenn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549360" y="2363760"/>
                    <a:ext cx="344484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5" name=""/>
              <p:cNvGrpSpPr/>
              <p:nvPr/>
            </p:nvGrpSpPr>
            <p:grpSpPr>
              <a:xfrm>
                <a:off x="3995640" y="2363760"/>
                <a:ext cx="2398680" cy="446040"/>
                <a:chOff x="3995640" y="2363760"/>
                <a:chExt cx="2398680" cy="4460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3995640" y="2363760"/>
                  <a:ext cx="239868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7" name=""/>
                <p:cNvGrpSpPr/>
                <p:nvPr/>
              </p:nvGrpSpPr>
              <p:grpSpPr>
                <a:xfrm>
                  <a:off x="3995640" y="2363760"/>
                  <a:ext cx="2397240" cy="446040"/>
                  <a:chOff x="3995640" y="2363760"/>
                  <a:chExt cx="2397240" cy="44604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>
                    <a:off x="4075200" y="2363760"/>
                    <a:ext cx="223812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1,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995640" y="2363760"/>
                    <a:ext cx="239724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0" name=""/>
              <p:cNvGrpSpPr/>
              <p:nvPr/>
            </p:nvGrpSpPr>
            <p:grpSpPr>
              <a:xfrm>
                <a:off x="6394320" y="2363760"/>
                <a:ext cx="2127240" cy="446040"/>
                <a:chOff x="6394320" y="2363760"/>
                <a:chExt cx="2127240" cy="44604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6394320" y="2363760"/>
                  <a:ext cx="212724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2" name=""/>
                <p:cNvGrpSpPr/>
                <p:nvPr/>
              </p:nvGrpSpPr>
              <p:grpSpPr>
                <a:xfrm>
                  <a:off x="6394320" y="2363760"/>
                  <a:ext cx="2125800" cy="446040"/>
                  <a:chOff x="6394320" y="2363760"/>
                  <a:chExt cx="2125800" cy="44604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6473880" y="2363760"/>
                    <a:ext cx="196668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+ 8,0 %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6394320" y="2363760"/>
                    <a:ext cx="212580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5" name=""/>
              <p:cNvGrpSpPr/>
              <p:nvPr/>
            </p:nvGrpSpPr>
            <p:grpSpPr>
              <a:xfrm>
                <a:off x="549360" y="2809800"/>
                <a:ext cx="3444840" cy="446040"/>
                <a:chOff x="549360" y="2809800"/>
                <a:chExt cx="3444840" cy="4460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49360" y="2809800"/>
                  <a:ext cx="344484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7" name=""/>
                <p:cNvGrpSpPr/>
                <p:nvPr/>
              </p:nvGrpSpPr>
              <p:grpSpPr>
                <a:xfrm>
                  <a:off x="549360" y="2809800"/>
                  <a:ext cx="3444840" cy="446040"/>
                  <a:chOff x="549360" y="2809800"/>
                  <a:chExt cx="3444840" cy="44604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>
                    <a:off x="628560" y="2809800"/>
                    <a:ext cx="328608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utre Europ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549360" y="2809800"/>
                    <a:ext cx="344484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0" name=""/>
              <p:cNvGrpSpPr/>
              <p:nvPr/>
            </p:nvGrpSpPr>
            <p:grpSpPr>
              <a:xfrm>
                <a:off x="3995640" y="2809800"/>
                <a:ext cx="2398680" cy="446040"/>
                <a:chOff x="3995640" y="2809800"/>
                <a:chExt cx="2398680" cy="4460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3995640" y="2809800"/>
                  <a:ext cx="239868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2" name=""/>
                <p:cNvGrpSpPr/>
                <p:nvPr/>
              </p:nvGrpSpPr>
              <p:grpSpPr>
                <a:xfrm>
                  <a:off x="3995640" y="2809800"/>
                  <a:ext cx="2397240" cy="446040"/>
                  <a:chOff x="3995640" y="2809800"/>
                  <a:chExt cx="2397240" cy="4460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4075200" y="2809800"/>
                    <a:ext cx="223812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,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3995640" y="2809800"/>
                    <a:ext cx="239724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5" name=""/>
              <p:cNvGrpSpPr/>
              <p:nvPr/>
            </p:nvGrpSpPr>
            <p:grpSpPr>
              <a:xfrm>
                <a:off x="6394320" y="2809800"/>
                <a:ext cx="2127240" cy="446040"/>
                <a:chOff x="6394320" y="2809800"/>
                <a:chExt cx="2127240" cy="44604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394320" y="2809800"/>
                  <a:ext cx="212724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7" name=""/>
                <p:cNvGrpSpPr/>
                <p:nvPr/>
              </p:nvGrpSpPr>
              <p:grpSpPr>
                <a:xfrm>
                  <a:off x="6394320" y="2809800"/>
                  <a:ext cx="2125800" cy="446040"/>
                  <a:chOff x="6394320" y="2809800"/>
                  <a:chExt cx="2125800" cy="44604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>
                    <a:off x="6473880" y="2809800"/>
                    <a:ext cx="196668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+ 0,5 %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6394320" y="2809800"/>
                    <a:ext cx="212580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0" name=""/>
              <p:cNvGrpSpPr/>
              <p:nvPr/>
            </p:nvGrpSpPr>
            <p:grpSpPr>
              <a:xfrm>
                <a:off x="549360" y="3255840"/>
                <a:ext cx="3444840" cy="446040"/>
                <a:chOff x="549360" y="3255840"/>
                <a:chExt cx="3444840" cy="4460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549360" y="3255840"/>
                  <a:ext cx="344484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2" name=""/>
                <p:cNvGrpSpPr/>
                <p:nvPr/>
              </p:nvGrpSpPr>
              <p:grpSpPr>
                <a:xfrm>
                  <a:off x="549360" y="3255840"/>
                  <a:ext cx="3444840" cy="446040"/>
                  <a:chOff x="549360" y="3255840"/>
                  <a:chExt cx="3444840" cy="44604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>
                    <a:off x="628560" y="3255840"/>
                    <a:ext cx="328608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frique du Nord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549360" y="3255840"/>
                    <a:ext cx="344484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5" name=""/>
              <p:cNvGrpSpPr/>
              <p:nvPr/>
            </p:nvGrpSpPr>
            <p:grpSpPr>
              <a:xfrm>
                <a:off x="3995640" y="3255840"/>
                <a:ext cx="2398680" cy="446040"/>
                <a:chOff x="3995640" y="3255840"/>
                <a:chExt cx="2398680" cy="4460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3995640" y="3255840"/>
                  <a:ext cx="239868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7" name=""/>
                <p:cNvGrpSpPr/>
                <p:nvPr/>
              </p:nvGrpSpPr>
              <p:grpSpPr>
                <a:xfrm>
                  <a:off x="3995640" y="3255840"/>
                  <a:ext cx="2397240" cy="446040"/>
                  <a:chOff x="3995640" y="3255840"/>
                  <a:chExt cx="2397240" cy="44604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4075200" y="3255840"/>
                    <a:ext cx="223812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,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3995640" y="3255840"/>
                    <a:ext cx="239724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0" name=""/>
              <p:cNvGrpSpPr/>
              <p:nvPr/>
            </p:nvGrpSpPr>
            <p:grpSpPr>
              <a:xfrm>
                <a:off x="6394320" y="3255840"/>
                <a:ext cx="2127240" cy="446040"/>
                <a:chOff x="6394320" y="3255840"/>
                <a:chExt cx="2127240" cy="44604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6394320" y="3255840"/>
                  <a:ext cx="212724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2" name=""/>
                <p:cNvGrpSpPr/>
                <p:nvPr/>
              </p:nvGrpSpPr>
              <p:grpSpPr>
                <a:xfrm>
                  <a:off x="6394320" y="3255840"/>
                  <a:ext cx="2125800" cy="446040"/>
                  <a:chOff x="6394320" y="3255840"/>
                  <a:chExt cx="2125800" cy="446040"/>
                </a:xfrm>
              </p:grpSpPr>
              <p:sp>
                <p:nvSpPr>
                  <p:cNvPr id="253" name=""/>
                  <p:cNvSpPr/>
                  <p:nvPr/>
                </p:nvSpPr>
                <p:spPr>
                  <a:xfrm>
                    <a:off x="6473880" y="3255840"/>
                    <a:ext cx="196668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+ 20,4 %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6394320" y="3255840"/>
                    <a:ext cx="212580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5" name=""/>
              <p:cNvGrpSpPr/>
              <p:nvPr/>
            </p:nvGrpSpPr>
            <p:grpSpPr>
              <a:xfrm>
                <a:off x="549360" y="3701880"/>
                <a:ext cx="3444840" cy="446400"/>
                <a:chOff x="549360" y="3701880"/>
                <a:chExt cx="3444840" cy="4464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549360" y="3701880"/>
                  <a:ext cx="3444840" cy="446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7" name=""/>
                <p:cNvGrpSpPr/>
                <p:nvPr/>
              </p:nvGrpSpPr>
              <p:grpSpPr>
                <a:xfrm>
                  <a:off x="549360" y="3701880"/>
                  <a:ext cx="3444840" cy="446400"/>
                  <a:chOff x="549360" y="3701880"/>
                  <a:chExt cx="3444840" cy="44640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628560" y="3701880"/>
                    <a:ext cx="3286080" cy="446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utre Afriqu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549360" y="3701880"/>
                    <a:ext cx="3444840" cy="44640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0" name=""/>
              <p:cNvGrpSpPr/>
              <p:nvPr/>
            </p:nvGrpSpPr>
            <p:grpSpPr>
              <a:xfrm>
                <a:off x="3995640" y="3701880"/>
                <a:ext cx="2398680" cy="446400"/>
                <a:chOff x="3995640" y="3701880"/>
                <a:chExt cx="2398680" cy="4464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3995640" y="3701880"/>
                  <a:ext cx="2398680" cy="446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2" name=""/>
                <p:cNvGrpSpPr/>
                <p:nvPr/>
              </p:nvGrpSpPr>
              <p:grpSpPr>
                <a:xfrm>
                  <a:off x="3995640" y="3701880"/>
                  <a:ext cx="2397240" cy="446400"/>
                  <a:chOff x="3995640" y="3701880"/>
                  <a:chExt cx="2397240" cy="44640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4075200" y="3701880"/>
                    <a:ext cx="2238120" cy="446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,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3995640" y="3701880"/>
                    <a:ext cx="2397240" cy="44640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5" name=""/>
              <p:cNvGrpSpPr/>
              <p:nvPr/>
            </p:nvGrpSpPr>
            <p:grpSpPr>
              <a:xfrm>
                <a:off x="6394320" y="3701880"/>
                <a:ext cx="2127240" cy="446400"/>
                <a:chOff x="6394320" y="3701880"/>
                <a:chExt cx="2127240" cy="44640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6394320" y="3701880"/>
                  <a:ext cx="2127240" cy="446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"/>
                <p:cNvGrpSpPr/>
                <p:nvPr/>
              </p:nvGrpSpPr>
              <p:grpSpPr>
                <a:xfrm>
                  <a:off x="6394320" y="3701880"/>
                  <a:ext cx="2125800" cy="446400"/>
                  <a:chOff x="6394320" y="3701880"/>
                  <a:chExt cx="2125800" cy="4464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473880" y="3701880"/>
                    <a:ext cx="1966680" cy="446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+ 6,4 %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394320" y="3701880"/>
                    <a:ext cx="2125800" cy="44640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0" name=""/>
              <p:cNvGrpSpPr/>
              <p:nvPr/>
            </p:nvGrpSpPr>
            <p:grpSpPr>
              <a:xfrm>
                <a:off x="549360" y="4148280"/>
                <a:ext cx="3444840" cy="446040"/>
                <a:chOff x="549360" y="4148280"/>
                <a:chExt cx="3444840" cy="4460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49360" y="4148280"/>
                  <a:ext cx="344484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2" name=""/>
                <p:cNvGrpSpPr/>
                <p:nvPr/>
              </p:nvGrpSpPr>
              <p:grpSpPr>
                <a:xfrm>
                  <a:off x="549360" y="4148280"/>
                  <a:ext cx="3444840" cy="446040"/>
                  <a:chOff x="549360" y="4148280"/>
                  <a:chExt cx="3444840" cy="44604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>
                    <a:off x="628560" y="4148280"/>
                    <a:ext cx="328608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mérique du Nord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549360" y="4148280"/>
                    <a:ext cx="344484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5" name=""/>
              <p:cNvGrpSpPr/>
              <p:nvPr/>
            </p:nvGrpSpPr>
            <p:grpSpPr>
              <a:xfrm>
                <a:off x="3995640" y="4148280"/>
                <a:ext cx="2398680" cy="446040"/>
                <a:chOff x="3995640" y="4148280"/>
                <a:chExt cx="2398680" cy="4460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3995640" y="4148280"/>
                  <a:ext cx="239868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"/>
                <p:cNvGrpSpPr/>
                <p:nvPr/>
              </p:nvGrpSpPr>
              <p:grpSpPr>
                <a:xfrm>
                  <a:off x="3995640" y="4148280"/>
                  <a:ext cx="2397240" cy="446040"/>
                  <a:chOff x="3995640" y="4148280"/>
                  <a:chExt cx="2397240" cy="44604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>
                    <a:off x="4075200" y="4148280"/>
                    <a:ext cx="223812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,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3995640" y="4148280"/>
                    <a:ext cx="239724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0" name=""/>
              <p:cNvGrpSpPr/>
              <p:nvPr/>
            </p:nvGrpSpPr>
            <p:grpSpPr>
              <a:xfrm>
                <a:off x="6394320" y="4148280"/>
                <a:ext cx="2127240" cy="446040"/>
                <a:chOff x="6394320" y="4148280"/>
                <a:chExt cx="2127240" cy="44604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6394320" y="4148280"/>
                  <a:ext cx="212724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2" name=""/>
                <p:cNvGrpSpPr/>
                <p:nvPr/>
              </p:nvGrpSpPr>
              <p:grpSpPr>
                <a:xfrm>
                  <a:off x="6394320" y="4148280"/>
                  <a:ext cx="2125800" cy="446040"/>
                  <a:chOff x="6394320" y="4148280"/>
                  <a:chExt cx="2125800" cy="44604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6473880" y="4148280"/>
                    <a:ext cx="196668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+ 12,3 %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6394320" y="4148280"/>
                    <a:ext cx="212580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5" name=""/>
              <p:cNvGrpSpPr/>
              <p:nvPr/>
            </p:nvGrpSpPr>
            <p:grpSpPr>
              <a:xfrm>
                <a:off x="549360" y="4594320"/>
                <a:ext cx="3444840" cy="446040"/>
                <a:chOff x="549360" y="4594320"/>
                <a:chExt cx="3444840" cy="4460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549360" y="4594320"/>
                  <a:ext cx="344484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7" name=""/>
                <p:cNvGrpSpPr/>
                <p:nvPr/>
              </p:nvGrpSpPr>
              <p:grpSpPr>
                <a:xfrm>
                  <a:off x="549360" y="4594320"/>
                  <a:ext cx="3444840" cy="446040"/>
                  <a:chOff x="549360" y="4594320"/>
                  <a:chExt cx="3444840" cy="4460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628560" y="4594320"/>
                    <a:ext cx="328608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mérique Latin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549360" y="4594320"/>
                    <a:ext cx="344484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0" name=""/>
              <p:cNvGrpSpPr/>
              <p:nvPr/>
            </p:nvGrpSpPr>
            <p:grpSpPr>
              <a:xfrm>
                <a:off x="3995640" y="4594320"/>
                <a:ext cx="2398680" cy="446040"/>
                <a:chOff x="3995640" y="4594320"/>
                <a:chExt cx="2398680" cy="4460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995640" y="4594320"/>
                  <a:ext cx="239868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2" name=""/>
                <p:cNvGrpSpPr/>
                <p:nvPr/>
              </p:nvGrpSpPr>
              <p:grpSpPr>
                <a:xfrm>
                  <a:off x="3995640" y="4594320"/>
                  <a:ext cx="2397240" cy="446040"/>
                  <a:chOff x="3995640" y="4594320"/>
                  <a:chExt cx="2397240" cy="44604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>
                    <a:off x="4075200" y="4594320"/>
                    <a:ext cx="223812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,4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3995640" y="4594320"/>
                    <a:ext cx="239724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5" name=""/>
              <p:cNvGrpSpPr/>
              <p:nvPr/>
            </p:nvGrpSpPr>
            <p:grpSpPr>
              <a:xfrm>
                <a:off x="6394320" y="4594320"/>
                <a:ext cx="2127240" cy="446040"/>
                <a:chOff x="6394320" y="4594320"/>
                <a:chExt cx="2127240" cy="44604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6394320" y="4594320"/>
                  <a:ext cx="212724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"/>
                <p:cNvGrpSpPr/>
                <p:nvPr/>
              </p:nvGrpSpPr>
              <p:grpSpPr>
                <a:xfrm>
                  <a:off x="6394320" y="4594320"/>
                  <a:ext cx="2125800" cy="446040"/>
                  <a:chOff x="6394320" y="4594320"/>
                  <a:chExt cx="2125800" cy="44604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>
                    <a:off x="6473880" y="4594320"/>
                    <a:ext cx="196668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+ 17,0 %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6394320" y="4594320"/>
                    <a:ext cx="212580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0" name=""/>
              <p:cNvGrpSpPr/>
              <p:nvPr/>
            </p:nvGrpSpPr>
            <p:grpSpPr>
              <a:xfrm>
                <a:off x="549360" y="5040360"/>
                <a:ext cx="3444840" cy="446040"/>
                <a:chOff x="549360" y="5040360"/>
                <a:chExt cx="3444840" cy="44604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549360" y="5040360"/>
                  <a:ext cx="344484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2" name=""/>
                <p:cNvGrpSpPr/>
                <p:nvPr/>
              </p:nvGrpSpPr>
              <p:grpSpPr>
                <a:xfrm>
                  <a:off x="549360" y="5040360"/>
                  <a:ext cx="3444840" cy="446040"/>
                  <a:chOff x="549360" y="5040360"/>
                  <a:chExt cx="3444840" cy="44604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>
                    <a:off x="628560" y="5040360"/>
                    <a:ext cx="328608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Dom-TOM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549360" y="5040360"/>
                    <a:ext cx="344484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5" name=""/>
              <p:cNvGrpSpPr/>
              <p:nvPr/>
            </p:nvGrpSpPr>
            <p:grpSpPr>
              <a:xfrm>
                <a:off x="3995640" y="5040360"/>
                <a:ext cx="2398680" cy="446040"/>
                <a:chOff x="3995640" y="5040360"/>
                <a:chExt cx="2398680" cy="44604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3995640" y="5040360"/>
                  <a:ext cx="239868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7" name=""/>
                <p:cNvGrpSpPr/>
                <p:nvPr/>
              </p:nvGrpSpPr>
              <p:grpSpPr>
                <a:xfrm>
                  <a:off x="3995640" y="5040360"/>
                  <a:ext cx="2397240" cy="446040"/>
                  <a:chOff x="3995640" y="5040360"/>
                  <a:chExt cx="2397240" cy="44604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4075200" y="5040360"/>
                    <a:ext cx="223812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,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3995640" y="5040360"/>
                    <a:ext cx="239724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0" name=""/>
              <p:cNvGrpSpPr/>
              <p:nvPr/>
            </p:nvGrpSpPr>
            <p:grpSpPr>
              <a:xfrm>
                <a:off x="6394320" y="5040360"/>
                <a:ext cx="2127240" cy="446040"/>
                <a:chOff x="6394320" y="5040360"/>
                <a:chExt cx="2127240" cy="44604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6394320" y="5040360"/>
                  <a:ext cx="212724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2" name=""/>
                <p:cNvGrpSpPr/>
                <p:nvPr/>
              </p:nvGrpSpPr>
              <p:grpSpPr>
                <a:xfrm>
                  <a:off x="6394320" y="5040360"/>
                  <a:ext cx="2125800" cy="446040"/>
                  <a:chOff x="6394320" y="5040360"/>
                  <a:chExt cx="2125800" cy="44604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>
                    <a:off x="6473880" y="5040360"/>
                    <a:ext cx="196668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+ 6,0 %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394320" y="5040360"/>
                    <a:ext cx="212580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5" name=""/>
              <p:cNvGrpSpPr/>
              <p:nvPr/>
            </p:nvGrpSpPr>
            <p:grpSpPr>
              <a:xfrm>
                <a:off x="549360" y="5486400"/>
                <a:ext cx="3444840" cy="446040"/>
                <a:chOff x="549360" y="5486400"/>
                <a:chExt cx="3444840" cy="44604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49360" y="5486400"/>
                  <a:ext cx="344484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7" name=""/>
                <p:cNvGrpSpPr/>
                <p:nvPr/>
              </p:nvGrpSpPr>
              <p:grpSpPr>
                <a:xfrm>
                  <a:off x="549360" y="5486400"/>
                  <a:ext cx="3444840" cy="446040"/>
                  <a:chOff x="549360" y="5486400"/>
                  <a:chExt cx="3444840" cy="44604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628560" y="5486400"/>
                    <a:ext cx="328608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Moyen-Orient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549360" y="5486400"/>
                    <a:ext cx="344484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0" name=""/>
              <p:cNvGrpSpPr/>
              <p:nvPr/>
            </p:nvGrpSpPr>
            <p:grpSpPr>
              <a:xfrm>
                <a:off x="3995640" y="5486400"/>
                <a:ext cx="2398680" cy="446040"/>
                <a:chOff x="3995640" y="5486400"/>
                <a:chExt cx="2398680" cy="44604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3995640" y="5486400"/>
                  <a:ext cx="239868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2" name=""/>
                <p:cNvGrpSpPr/>
                <p:nvPr/>
              </p:nvGrpSpPr>
              <p:grpSpPr>
                <a:xfrm>
                  <a:off x="3995640" y="5486400"/>
                  <a:ext cx="2397240" cy="446040"/>
                  <a:chOff x="3995640" y="5486400"/>
                  <a:chExt cx="2397240" cy="44604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>
                    <a:off x="4075200" y="5486400"/>
                    <a:ext cx="223812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,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3995640" y="5486400"/>
                    <a:ext cx="239724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5" name=""/>
              <p:cNvGrpSpPr/>
              <p:nvPr/>
            </p:nvGrpSpPr>
            <p:grpSpPr>
              <a:xfrm>
                <a:off x="6394320" y="5486400"/>
                <a:ext cx="2127240" cy="446040"/>
                <a:chOff x="6394320" y="5486400"/>
                <a:chExt cx="2127240" cy="44604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6394320" y="5486400"/>
                  <a:ext cx="212724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7" name=""/>
                <p:cNvGrpSpPr/>
                <p:nvPr/>
              </p:nvGrpSpPr>
              <p:grpSpPr>
                <a:xfrm>
                  <a:off x="6394320" y="5486400"/>
                  <a:ext cx="2125800" cy="446040"/>
                  <a:chOff x="6394320" y="5486400"/>
                  <a:chExt cx="2125800" cy="44604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6473880" y="5486400"/>
                    <a:ext cx="196668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+ 26,1 %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6394320" y="5486400"/>
                    <a:ext cx="212580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0" name=""/>
              <p:cNvGrpSpPr/>
              <p:nvPr/>
            </p:nvGrpSpPr>
            <p:grpSpPr>
              <a:xfrm>
                <a:off x="549360" y="5932440"/>
                <a:ext cx="3444840" cy="446040"/>
                <a:chOff x="549360" y="5932440"/>
                <a:chExt cx="3444840" cy="44604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549360" y="5932440"/>
                  <a:ext cx="344484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2" name=""/>
                <p:cNvGrpSpPr/>
                <p:nvPr/>
              </p:nvGrpSpPr>
              <p:grpSpPr>
                <a:xfrm>
                  <a:off x="549360" y="5932440"/>
                  <a:ext cx="3444840" cy="446040"/>
                  <a:chOff x="549360" y="5932440"/>
                  <a:chExt cx="3444840" cy="44604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628560" y="5932440"/>
                    <a:ext cx="328608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xtrême-Orient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549360" y="5932440"/>
                    <a:ext cx="344484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5" name=""/>
              <p:cNvGrpSpPr/>
              <p:nvPr/>
            </p:nvGrpSpPr>
            <p:grpSpPr>
              <a:xfrm>
                <a:off x="3995640" y="5932440"/>
                <a:ext cx="2398680" cy="446040"/>
                <a:chOff x="3995640" y="5932440"/>
                <a:chExt cx="2398680" cy="44604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3995640" y="5932440"/>
                  <a:ext cx="239868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7" name=""/>
                <p:cNvGrpSpPr/>
                <p:nvPr/>
              </p:nvGrpSpPr>
              <p:grpSpPr>
                <a:xfrm>
                  <a:off x="3995640" y="5932440"/>
                  <a:ext cx="2397240" cy="446040"/>
                  <a:chOff x="3995640" y="5932440"/>
                  <a:chExt cx="2397240" cy="44604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>
                    <a:off x="4075200" y="5932440"/>
                    <a:ext cx="223812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,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3995640" y="5932440"/>
                    <a:ext cx="239724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0" name=""/>
              <p:cNvGrpSpPr/>
              <p:nvPr/>
            </p:nvGrpSpPr>
            <p:grpSpPr>
              <a:xfrm>
                <a:off x="6394320" y="5932440"/>
                <a:ext cx="2127240" cy="446040"/>
                <a:chOff x="6394320" y="5932440"/>
                <a:chExt cx="2127240" cy="44604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6394320" y="5932440"/>
                  <a:ext cx="212724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2" name=""/>
                <p:cNvGrpSpPr/>
                <p:nvPr/>
              </p:nvGrpSpPr>
              <p:grpSpPr>
                <a:xfrm>
                  <a:off x="6394320" y="5932440"/>
                  <a:ext cx="2125800" cy="446040"/>
                  <a:chOff x="6394320" y="5932440"/>
                  <a:chExt cx="2125800" cy="44604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>
                    <a:off x="6473880" y="5932440"/>
                    <a:ext cx="196668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+ 9,1 %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6394320" y="5932440"/>
                    <a:ext cx="212580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45" name=""/>
            <p:cNvSpPr/>
            <p:nvPr/>
          </p:nvSpPr>
          <p:spPr>
            <a:xfrm>
              <a:off x="539640" y="1341360"/>
              <a:ext cx="7993080" cy="5040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E471-596F-49E0-8D88-A845DFB1F668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0080" y="274320"/>
            <a:ext cx="878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Un exemple de scénario : négawat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2195640" y="1709640"/>
            <a:ext cx="4733640" cy="463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ED89-4A1D-438F-996B-B784CE7DEF3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785960" y="-14400"/>
            <a:ext cx="5572080" cy="68868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04920" y="6267600"/>
            <a:ext cx="12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égaw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1E25-A795-45CA-A506-9CDB372B8EF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Trois piliers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s objectifs clairement définis : la capacité de survie de l’espèce huma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espace de projet commun : le territoire dans ses dimensions physiques et huma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e approche énergétique rigoureuse et fer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négawa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7D84-5CF6-4F6E-A1CB-36B0B209B44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822168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Quelques sites u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76200" y="1187280"/>
            <a:ext cx="839952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ttp://www.global-chance.org/index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ttp://www.negawatt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ttp://www.iea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ttp://fr.wikipedia.org/wiki/%C3%89nergie_en_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ttp://www.developpement-durable.gouv.fr/Donnees-de-reference,13355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ttp://ec.europa.eu/transport/white_paper/documents/doc/lb_texte_complet_fr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ttp://epp.eurostat.ec.europa.eu/portal/page/portal/energy/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53B4-AE64-4BFD-BD3E-AC3BD766B0F8}" type="slidenum">
              <a:t>35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France : consommation en MTep</a:t>
            </a:r>
            <a:br>
              <a:rPr sz="40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consommation fina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6480000"/>
            <a:ext cx="53658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mmissariat général au développement durable : </a:t>
            </a: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Repères Chiffres clés de l’énergie Octobre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52400" y="1482840"/>
          <a:ext cx="7559640" cy="4635000"/>
        </p:xfrm>
        <a:graphic>
          <a:graphicData uri="http://schemas.openxmlformats.org/drawingml/2006/table">
            <a:tbl>
              <a:tblPr/>
              <a:tblGrid>
                <a:gridCol w="4381560"/>
                <a:gridCol w="1589040"/>
                <a:gridCol w="1589040"/>
              </a:tblGrid>
              <a:tr h="5274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e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527760"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bon et cok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528120"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its pétrolier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,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4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527400"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z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6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528120"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ité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9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527400"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ouvelables thermiqu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1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528120"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136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527040"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 des fossil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,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9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BC20-DC8A-4AEF-B0DF-1CAF248B168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440" y="274320"/>
            <a:ext cx="86868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Énergie : quatre questions insépar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6560" y="1886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 algn="just">
              <a:lnSpc>
                <a:spcPct val="120000"/>
              </a:lnSpc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b2b2b2"/>
                </a:solidFill>
                <a:latin typeface="Arial"/>
              </a:rPr>
              <a:t>Un besoin v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Les inégalités d'accè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just">
              <a:lnSpc>
                <a:spcPct val="120000"/>
              </a:lnSpc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b2b2b2"/>
                </a:solidFill>
                <a:latin typeface="Arial"/>
              </a:rPr>
              <a:t>Des ressources qui s’épui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just">
              <a:lnSpc>
                <a:spcPct val="120000"/>
              </a:lnSpc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b2b2b2"/>
                </a:solidFill>
                <a:latin typeface="Arial"/>
              </a:rPr>
              <a:t>L’équilibre de notre envir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953F-4916-455A-8E0E-7DE0213D4E0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Les inégalités d'accè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13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2 milliards de tonnes équivalent pétrole (Tep) :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1,8 tonnes par habita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3200" indent="-309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4,6   Tep/hab pour les pays de l’OC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3200" indent="-309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,6   Tep/hab pour la Chine - 0,5 pour l'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3200" indent="-309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0,65 Tep pour le reste de l’Asie ou l’Af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3200" indent="-309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7,5   Tep pour les États-u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3200" indent="-309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0,15 Tep pour l’Érythrée, le Banglade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3200" indent="-309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France  :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4,2 Tep par habi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D41C-C2E7-437F-954A-F4F53293198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Les inégalités d'accè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0 % de la population : 60 % des ressources énergétiques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0 % des pays les plus pauvres : 1 % de l’électricité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0 % des pays les plus riches : 45 % des ressources élect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4272-4403-40F0-9AFC-31B9EAE2DC9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6267600"/>
            <a:ext cx="181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i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440" y="274680"/>
            <a:ext cx="868680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2 en tonnes par habit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979640" y="1260360"/>
            <a:ext cx="4790880" cy="501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D92B-826E-4D94-A88C-F65D477F7B3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440" y="274320"/>
            <a:ext cx="86868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Énergie : quatre questions insépar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6560" y="1886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 algn="just">
              <a:lnSpc>
                <a:spcPct val="120000"/>
              </a:lnSpc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b2b2b2"/>
                </a:solidFill>
                <a:latin typeface="Arial"/>
              </a:rPr>
              <a:t>Un besoin v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just">
              <a:lnSpc>
                <a:spcPct val="120000"/>
              </a:lnSpc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b2b2b2"/>
                </a:solidFill>
                <a:latin typeface="Arial"/>
              </a:rPr>
              <a:t>Les inégalités d'accè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Des ressources qui s’épui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just">
              <a:lnSpc>
                <a:spcPct val="120000"/>
              </a:lnSpc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b2b2b2"/>
                </a:solidFill>
                <a:latin typeface="Arial"/>
              </a:rPr>
              <a:t>L’équilibre de notre envir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78CF-8DE7-401D-B3BA-EBCF3B06DDA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09:42:02Z</dcterms:created>
  <dc:creator>weber</dc:creator>
  <dc:description/>
  <dc:language>en-US</dc:language>
  <cp:lastModifiedBy>weber</cp:lastModifiedBy>
  <dcterms:modified xsi:type="dcterms:W3CDTF">2007-01-22T09:32:34Z</dcterms:modified>
  <cp:revision>44</cp:revision>
  <dc:subject/>
  <dc:title>Diapositive 1</dc:title>
</cp:coreProperties>
</file>