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86440" cy="1001880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10018800"/>
              <a:gd name="textAreaBottom" fmla="*/ 10018440 h 10018800"/>
            </a:gdLst>
            <a:ahLst/>
            <a:rect l="textAreaLeft" t="textAreaTop" r="textAreaRight" b="textAreaBottom"/>
            <a:pathLst>
              <a:path w="21600" h="31424">
                <a:moveTo>
                  <a:pt x="4" y="0"/>
                </a:moveTo>
                <a:arcTo wR="4" hR="4" stAng="16200000" swAng="-5400000"/>
                <a:lnTo>
                  <a:pt x="0" y="31420"/>
                </a:lnTo>
                <a:arcTo wR="4" hR="4" stAng="10800000" swAng="-5400000"/>
                <a:lnTo>
                  <a:pt x="21596" y="3142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0168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4997160" cy="37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8680" y="4758840"/>
            <a:ext cx="54975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51552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01680" y="951552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83EDE-3979-4507-A1FB-00C61F30B7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354ED-3810-4ECD-BF94-BAB6DCAA68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020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8680" cy="3756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7640" y="4759200"/>
            <a:ext cx="5052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DejaVu Sans"/>
              </a:rPr>
              <a:t>Un peu de physique:énergie=travail potentiel= nécessaire à toute activité et donc à tout accroissement de riches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507AC-46E6-4FBC-B8B1-5C06DABBA1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020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4990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A848E-082B-43E3-B2B6-08902BD1F63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020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4990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2A9F-9991-419D-9C6B-A0179F08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4AB2-3F0B-432A-989E-F550A3F3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C577-FF63-4431-AD7E-E4D7120B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99EC-3CBF-45F9-B0BF-A7C927F4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53F9-CB31-4BCE-A85C-B4B1AC77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E48D-562B-46F4-A5ED-4855F2DB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3B3F-029D-4C9F-A803-464EC2A8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3A2D-03A5-4322-8C6A-FBD9A7D5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6587-99E2-47DE-9F72-6FCE4F10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8219-A4CE-4F5B-B30F-B1E072FB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6666-6688-47C3-9621-F9AF0883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0091-1809-4A59-8D36-5A08C08A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5471-11C0-4D41-8E5C-EEF5FE2E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6B0F-5753-4D34-A17B-62573988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568A-21AF-42F1-864A-9C5CD7F7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A6E5-5A9A-43A5-B6C2-E4B51B2C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8284-C7A4-4E18-87B1-B8AFAFE6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D157-224B-4DDE-BE7E-5D471EDD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5441-16DA-445C-89C6-2D09A81B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FD88-591E-4AF7-8A33-6835B578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E4CA-7379-4169-8153-1104CC28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9598-D4A0-4811-8304-54A8204F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9ACB-7486-41FA-9FA6-8013202E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4641-D3FA-4853-83BC-990AD4C1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076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28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121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691C0-3129-459D-B0C8-D21173E87A23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2076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828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121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8B78EB6-9F10-44F1-815C-97BE0AF2C5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6040" y="314280"/>
            <a:ext cx="2883240" cy="6346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904000" y="3060720"/>
            <a:ext cx="3240000" cy="3813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086280" y="201600"/>
            <a:ext cx="2314440" cy="2857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216480" y="185760"/>
            <a:ext cx="2822760" cy="210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57FE-169C-4390-989F-EBEC4DEFE75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5582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Des sources d’énergi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74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Non-renouvelables :  charbon, pétrole, gaz (chimiqu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(87%)                uranium (fission nucléai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Renouvelables:         homme / animal / bioénerg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(13%)                hydraulique / éolien (mécaniqu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olaire (fusion nucléai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géothermie (thermiqu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NB: 1) Possibilités de stockage et de transpor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2) L’hydrogène 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n’est pa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une source d’énerg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0217-C26F-4C56-8568-B1DCDDC61F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9640" y="1557360"/>
            <a:ext cx="842508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Réserves en anné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alculées à partir de la consommation actu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étrole et gaz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≈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30 à 50 a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harbon et  produits  lourds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≈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2 à 300 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stimations en années très peu fiables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technique utilisé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dépendantes des prix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- discrétion des compagnies pétroliè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290520"/>
            <a:ext cx="75582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qui s’épuis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30F8-171F-4257-BA30-F572D3E461E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12760" y="390600"/>
            <a:ext cx="8569440" cy="586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E50E-4932-43FC-A925-35C54E2B204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40" y="274320"/>
            <a:ext cx="86868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Énergie : quatre questions insépar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6560" y="1886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b2b2b2"/>
                </a:solidFill>
                <a:latin typeface="Arial"/>
              </a:rPr>
              <a:t>Un besoin v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b2b2b2"/>
                </a:solidFill>
                <a:latin typeface="Arial"/>
              </a:rPr>
              <a:t>Les inégalités d'accè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b2b2b2"/>
                </a:solidFill>
                <a:latin typeface="Arial"/>
              </a:rPr>
              <a:t>Des ressources qui s’épui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L’équilibre de notre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A07C-516D-457B-A3BE-616B0C40ECB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8147-0B2F-437C-9C9E-CB28C42D381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064360" cy="675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A6BF-95DA-49C4-8BE3-30CFB4C3236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1360" y="1031760"/>
            <a:ext cx="8529840" cy="5237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rot="1920000">
            <a:off x="6354360" y="636120"/>
            <a:ext cx="1695600" cy="371520"/>
          </a:xfrm>
          <a:prstGeom prst="rightArrow">
            <a:avLst>
              <a:gd name="adj1" fmla="val 50000"/>
              <a:gd name="adj2" fmla="val 11409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6267600"/>
            <a:ext cx="48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ttp://www.brighton73.freeserve.co.uk/gw/paleo/400000yrfig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440" y="274320"/>
            <a:ext cx="86868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empérature et CO2 (400 000 a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ED02-920B-401A-979C-A03EFBF4000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1360" y="893880"/>
            <a:ext cx="8594640" cy="5276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rot="1920000">
            <a:off x="6392520" y="417240"/>
            <a:ext cx="1695600" cy="371520"/>
          </a:xfrm>
          <a:prstGeom prst="rightArrow">
            <a:avLst>
              <a:gd name="adj1" fmla="val 50000"/>
              <a:gd name="adj2" fmla="val 11409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6267600"/>
            <a:ext cx="48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ttp://www.brighton73.freeserve.co.uk/gw/paleo/20000yrfig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0440" y="274320"/>
            <a:ext cx="86868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empérature et CO2 (20 000 a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7289-B6FA-4525-B0B8-3B8DBBD3F58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19120" y="1181160"/>
            <a:ext cx="6305760" cy="4495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rot="1920000">
            <a:off x="4620960" y="3522600"/>
            <a:ext cx="1695240" cy="371520"/>
          </a:xfrm>
          <a:prstGeom prst="rightArrow">
            <a:avLst>
              <a:gd name="adj1" fmla="val 50000"/>
              <a:gd name="adj2" fmla="val 1140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440" y="274320"/>
            <a:ext cx="86868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2 (1 000 a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6267600"/>
            <a:ext cx="48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i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0E30-5152-42AD-9C45-45E9AD6F7B8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440" y="274320"/>
            <a:ext cx="86868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2 … quel fut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6267600"/>
            <a:ext cx="48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i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23960" y="909720"/>
            <a:ext cx="5419800" cy="559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2462-894A-41B5-859D-AD2F2ACF84E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40" y="274320"/>
            <a:ext cx="86868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Énergie : quatre questions insépar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Un besoin v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Les inégalités d'accè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Des ressources qui s’épui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L’équilibre de notre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Et des alternatives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889600" y="1533600"/>
            <a:ext cx="2933640" cy="1838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857920" y="3219480"/>
            <a:ext cx="300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http://www.meteo.fr/meteonet/decouvr/dossier/effetser/eff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6300720"/>
            <a:ext cx="485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ttp://jacques.weber.pagesperso-orange.f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CA8F-DF01-45F8-B4DA-4FDEC1C67EA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405080" y="1057320"/>
            <a:ext cx="6333840" cy="47433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440" y="274320"/>
            <a:ext cx="86868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2 … quel fut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6267600"/>
            <a:ext cx="48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i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910F-9221-465B-9D14-6991DE05CE5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440" y="274320"/>
            <a:ext cx="86868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Énergie : quatre questions insépar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6560" y="1886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b2b2b2"/>
                </a:solidFill>
                <a:latin typeface="Arial"/>
              </a:rPr>
              <a:t>Un besoin v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b2b2b2"/>
                </a:solidFill>
                <a:latin typeface="Arial"/>
              </a:rPr>
              <a:t>Les inégalités d'accè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b2b2b2"/>
                </a:solidFill>
                <a:latin typeface="Arial"/>
              </a:rPr>
              <a:t>Des ressources qui s’épui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b2b2b2"/>
                </a:solidFill>
                <a:latin typeface="Arial"/>
              </a:rPr>
              <a:t>L’équilibre de notre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Les altern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F18F-EBEE-47BB-92DA-A96FEA6C37A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Éléments pour un déba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14440"/>
            <a:ext cx="8229600" cy="38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ne remplacera pas les centrales nucléaires par des éoliennes ; au plus un quart de la puissance installée sur un réseau (sources intermitten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relance massive des programmes électronucléaires à l’échelle mondiale (triplement) ne résoudra ni la question climatique (baisse de 9% du CO2) ni la crise pétrolière (transpo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déchets, risques d’accidents ou d’attentats ne sont pas des questions secondai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5920" y="1238400"/>
            <a:ext cx="8877240" cy="10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Arial"/>
              </a:rPr>
              <a:t>des faits qui peuvent être contradicto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673A-4E04-4C26-87FE-9A4DB332D05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Éléments pour un déba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14440"/>
            <a:ext cx="8229600" cy="38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unités de production électrique centralisées sont mal adaptées à des centres de consommation extrêmement répartis ( transport et distrib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unités de production décentralisées doi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’appuyer sur un réseau de transport pour assurer la continuité du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viter la mise en concurrence des territoires en fonction de leurs ressources plus ou moins access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5920" y="1238400"/>
            <a:ext cx="8877240" cy="10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Arial"/>
              </a:rPr>
              <a:t>des faits qui peuvent être contradicto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FC1E-2094-4EEE-9B74-6AA08FFB9B0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Éléments pour un déba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314440"/>
            <a:ext cx="8229600" cy="38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'électricité : une composante du problème (22% de l’énergie finale en France et dans les pays rich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a consommation d'énergie : 75% de l'effet de ser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a question énergétique (les transports) remet en cause l’organisation des villes, les politiques de flux tendu, le tourisme (compagnies « </a:t>
            </a:r>
            <a:r>
              <a:rPr b="0" i="1" lang="fr-FR" sz="2600" spc="-1" strike="noStrike">
                <a:solidFill>
                  <a:srgbClr val="000000"/>
                </a:solidFill>
                <a:latin typeface="Arial"/>
              </a:rPr>
              <a:t>low cost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 »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On ne remplacera pas le pétrole par des biocarburants : quatre fois la surface cultivable de la planè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5920" y="1238400"/>
            <a:ext cx="8877240" cy="10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Arial"/>
              </a:rPr>
              <a:t>des faits qui peuvent être contradicto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5002-E9DD-44B5-A8A8-73D9CB09832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Éléments pour un déba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314440"/>
            <a:ext cx="8229600" cy="38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’énergie n’est pas une fin en soi, l’accès concerne les services rendus par l’éner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3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3360" indent="-33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aire un état des lieux des usages de l’é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ettre en débat tous les acteurs concernés : citoyens, entreprises du système énergétique, experts, responsables politiques locaux, nationaux et europé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238400"/>
            <a:ext cx="9144000" cy="10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Arial"/>
              </a:rPr>
              <a:t>face aux contradictions : une autre logique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B63F-81E2-4FA6-9759-3BEDEA1FF77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Éléments pour un déba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14440"/>
            <a:ext cx="8229600" cy="38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 algn="ctr"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s usages de l’énergie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 tiers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 sert à chauffe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es locaux (pour le secteur résidentiel, 80 % de son énergie est consacrée aux applications thermiqu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autre tiers sert aux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transport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tiers restant comporte notamment les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applications spécifiqu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 l’électric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238400"/>
            <a:ext cx="9144000" cy="10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Arial"/>
              </a:rPr>
              <a:t>face aux contradictions : une autre logique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9B68-6898-429E-A29E-F61AAFD54AB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3560" y="744480"/>
            <a:ext cx="7499520" cy="44276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52600" y="5600880"/>
            <a:ext cx="7800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volution des GES France – 2004 par rapport à 1990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Source MEDD/CITEP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38FC-F50A-4181-832E-A125B4F96D7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0600" y="1081080"/>
            <a:ext cx="8004240" cy="498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Maisons pass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D45C-2123-4232-BD15-5EE21EB4793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Maisons pass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438200"/>
            <a:ext cx="7181640" cy="472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9462-3182-408A-B321-387BC98E36E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Un besoin vi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6480000"/>
            <a:ext cx="51357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 N T E R N A T I O N A L E N E RGY A G E N CY :  </a:t>
            </a: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KEY WORLD  ENERGY  STATISTICS 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46160" y="1023840"/>
            <a:ext cx="7048440" cy="531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BE54-E0AE-4FB8-84F2-C366BAA72CB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80"/>
                </a:solidFill>
                <a:latin typeface="Arial"/>
                <a:ea typeface="Arial"/>
              </a:rPr>
              <a:t>Emissions de gaz à effet de serre par mode motorisé, en grammes d'équivalent carbone par passager.km. On constate que l'avion et la voiture sont à peu près au même niveau à distance égale.</a:t>
            </a:r>
            <a:br>
              <a:rPr sz="2000"/>
            </a:br>
            <a:r>
              <a:rPr b="0" lang="fr-FR" sz="2000" spc="-1" strike="noStrike">
                <a:solidFill>
                  <a:srgbClr val="000080"/>
                </a:solidFill>
                <a:latin typeface="Arial"/>
                <a:ea typeface="Arial"/>
              </a:rPr>
              <a:t>Sources : </a:t>
            </a:r>
            <a:r>
              <a:rPr b="0" lang="fr-FR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ADEME</a:t>
            </a:r>
            <a:r>
              <a:rPr b="0" lang="fr-FR" sz="2000" spc="-1" strike="noStrike">
                <a:solidFill>
                  <a:srgbClr val="000080"/>
                </a:solidFill>
                <a:latin typeface="Arial"/>
                <a:ea typeface="Arial"/>
              </a:rPr>
              <a:t>, </a:t>
            </a:r>
            <a:r>
              <a:rPr b="0" lang="fr-FR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INRETS</a:t>
            </a:r>
            <a:r>
              <a:rPr b="0" lang="fr-FR" sz="2000" spc="-1" strike="noStrike">
                <a:solidFill>
                  <a:srgbClr val="000080"/>
                </a:solidFill>
                <a:latin typeface="Arial"/>
                <a:ea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00280" y="14716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0769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9694-4538-4F57-A58C-129B9AF50A2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raffic aérien (source AD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39640" y="1341360"/>
            <a:ext cx="7993080" cy="5040360"/>
            <a:chOff x="539640" y="1341360"/>
            <a:chExt cx="7993080" cy="5040360"/>
          </a:xfrm>
        </p:grpSpPr>
        <p:grpSp>
          <p:nvGrpSpPr>
            <p:cNvPr id="179" name=""/>
            <p:cNvGrpSpPr/>
            <p:nvPr/>
          </p:nvGrpSpPr>
          <p:grpSpPr>
            <a:xfrm>
              <a:off x="549360" y="1344600"/>
              <a:ext cx="7972200" cy="5033880"/>
              <a:chOff x="549360" y="1344600"/>
              <a:chExt cx="7972200" cy="503388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549360" y="1344600"/>
                <a:ext cx="3444840" cy="573120"/>
                <a:chOff x="549360" y="1344600"/>
                <a:chExt cx="3444840" cy="5731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49360" y="1344600"/>
                  <a:ext cx="3444840" cy="573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2" name=""/>
                <p:cNvGrpSpPr/>
                <p:nvPr/>
              </p:nvGrpSpPr>
              <p:grpSpPr>
                <a:xfrm>
                  <a:off x="549360" y="1344600"/>
                  <a:ext cx="3444840" cy="573120"/>
                  <a:chOff x="549360" y="1344600"/>
                  <a:chExt cx="3444840" cy="573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628560" y="1344600"/>
                    <a:ext cx="3286080" cy="573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1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estination/Origin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49360" y="1344600"/>
                    <a:ext cx="3444840" cy="57312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5" name=""/>
              <p:cNvGrpSpPr/>
              <p:nvPr/>
            </p:nvGrpSpPr>
            <p:grpSpPr>
              <a:xfrm>
                <a:off x="3995640" y="1344600"/>
                <a:ext cx="2398680" cy="573120"/>
                <a:chOff x="3995640" y="1344600"/>
                <a:chExt cx="2398680" cy="5731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995640" y="1344600"/>
                  <a:ext cx="2398680" cy="573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7" name=""/>
                <p:cNvGrpSpPr/>
                <p:nvPr/>
              </p:nvGrpSpPr>
              <p:grpSpPr>
                <a:xfrm>
                  <a:off x="3995640" y="1344600"/>
                  <a:ext cx="2397240" cy="573120"/>
                  <a:chOff x="3995640" y="1344600"/>
                  <a:chExt cx="2397240" cy="57312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4075200" y="1344600"/>
                    <a:ext cx="2238120" cy="573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1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assagers (M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3995640" y="1344600"/>
                    <a:ext cx="2397240" cy="57312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0" name=""/>
              <p:cNvGrpSpPr/>
              <p:nvPr/>
            </p:nvGrpSpPr>
            <p:grpSpPr>
              <a:xfrm>
                <a:off x="6394320" y="1344600"/>
                <a:ext cx="2127240" cy="573120"/>
                <a:chOff x="6394320" y="1344600"/>
                <a:chExt cx="2127240" cy="5731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6394320" y="1344600"/>
                  <a:ext cx="2127240" cy="573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2" name=""/>
                <p:cNvGrpSpPr/>
                <p:nvPr/>
              </p:nvGrpSpPr>
              <p:grpSpPr>
                <a:xfrm>
                  <a:off x="6394320" y="1344600"/>
                  <a:ext cx="2125800" cy="573120"/>
                  <a:chOff x="6394320" y="1344600"/>
                  <a:chExt cx="2125800" cy="57312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6473880" y="1344600"/>
                    <a:ext cx="1966680" cy="573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1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Variation (an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6394320" y="1344600"/>
                    <a:ext cx="2125800" cy="57312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5" name=""/>
              <p:cNvGrpSpPr/>
              <p:nvPr/>
            </p:nvGrpSpPr>
            <p:grpSpPr>
              <a:xfrm>
                <a:off x="549360" y="1917720"/>
                <a:ext cx="3444840" cy="446040"/>
                <a:chOff x="549360" y="1917720"/>
                <a:chExt cx="3444840" cy="4460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549360" y="1917720"/>
                  <a:ext cx="34448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7" name=""/>
                <p:cNvGrpSpPr/>
                <p:nvPr/>
              </p:nvGrpSpPr>
              <p:grpSpPr>
                <a:xfrm>
                  <a:off x="549360" y="1917720"/>
                  <a:ext cx="3444840" cy="446040"/>
                  <a:chOff x="549360" y="1917720"/>
                  <a:chExt cx="3444840" cy="44604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628560" y="1917720"/>
                    <a:ext cx="32860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Métropol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549360" y="1917720"/>
                    <a:ext cx="34448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0" name=""/>
              <p:cNvGrpSpPr/>
              <p:nvPr/>
            </p:nvGrpSpPr>
            <p:grpSpPr>
              <a:xfrm>
                <a:off x="3995640" y="1917720"/>
                <a:ext cx="2398680" cy="446040"/>
                <a:chOff x="3995640" y="1917720"/>
                <a:chExt cx="2398680" cy="44604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3995640" y="1917720"/>
                  <a:ext cx="239868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3995640" y="1917720"/>
                  <a:ext cx="2397240" cy="446040"/>
                  <a:chOff x="3995640" y="1917720"/>
                  <a:chExt cx="2397240" cy="44604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4075200" y="1917720"/>
                    <a:ext cx="223812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1,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995640" y="1917720"/>
                    <a:ext cx="23972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"/>
              <p:cNvGrpSpPr/>
              <p:nvPr/>
            </p:nvGrpSpPr>
            <p:grpSpPr>
              <a:xfrm>
                <a:off x="6394320" y="1917720"/>
                <a:ext cx="2127240" cy="446040"/>
                <a:chOff x="6394320" y="1917720"/>
                <a:chExt cx="2127240" cy="4460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6394320" y="1917720"/>
                  <a:ext cx="21272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6394320" y="1917720"/>
                  <a:ext cx="2125800" cy="446040"/>
                  <a:chOff x="6394320" y="1917720"/>
                  <a:chExt cx="2125800" cy="4460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6473880" y="1917720"/>
                    <a:ext cx="19666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 6,3 %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6394320" y="1917720"/>
                    <a:ext cx="212580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0" name=""/>
              <p:cNvGrpSpPr/>
              <p:nvPr/>
            </p:nvGrpSpPr>
            <p:grpSpPr>
              <a:xfrm>
                <a:off x="549360" y="2363760"/>
                <a:ext cx="3444840" cy="446040"/>
                <a:chOff x="549360" y="2363760"/>
                <a:chExt cx="3444840" cy="4460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49360" y="2363760"/>
                  <a:ext cx="34448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2" name=""/>
                <p:cNvGrpSpPr/>
                <p:nvPr/>
              </p:nvGrpSpPr>
              <p:grpSpPr>
                <a:xfrm>
                  <a:off x="549360" y="2363760"/>
                  <a:ext cx="3444840" cy="446040"/>
                  <a:chOff x="549360" y="2363760"/>
                  <a:chExt cx="3444840" cy="4460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628560" y="2363760"/>
                    <a:ext cx="32860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Union Européenn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549360" y="2363760"/>
                    <a:ext cx="34448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5" name=""/>
              <p:cNvGrpSpPr/>
              <p:nvPr/>
            </p:nvGrpSpPr>
            <p:grpSpPr>
              <a:xfrm>
                <a:off x="3995640" y="2363760"/>
                <a:ext cx="2398680" cy="446040"/>
                <a:chOff x="3995640" y="2363760"/>
                <a:chExt cx="2398680" cy="4460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995640" y="2363760"/>
                  <a:ext cx="239868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3995640" y="2363760"/>
                  <a:ext cx="2397240" cy="446040"/>
                  <a:chOff x="3995640" y="2363760"/>
                  <a:chExt cx="2397240" cy="44604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4075200" y="2363760"/>
                    <a:ext cx="223812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1,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995640" y="2363760"/>
                    <a:ext cx="23972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0" name=""/>
              <p:cNvGrpSpPr/>
              <p:nvPr/>
            </p:nvGrpSpPr>
            <p:grpSpPr>
              <a:xfrm>
                <a:off x="6394320" y="2363760"/>
                <a:ext cx="2127240" cy="446040"/>
                <a:chOff x="6394320" y="2363760"/>
                <a:chExt cx="2127240" cy="4460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6394320" y="2363760"/>
                  <a:ext cx="21272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"/>
                <p:cNvGrpSpPr/>
                <p:nvPr/>
              </p:nvGrpSpPr>
              <p:grpSpPr>
                <a:xfrm>
                  <a:off x="6394320" y="2363760"/>
                  <a:ext cx="2125800" cy="446040"/>
                  <a:chOff x="6394320" y="2363760"/>
                  <a:chExt cx="2125800" cy="44604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6473880" y="2363760"/>
                    <a:ext cx="19666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 8,0 %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6394320" y="2363760"/>
                    <a:ext cx="212580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5" name=""/>
              <p:cNvGrpSpPr/>
              <p:nvPr/>
            </p:nvGrpSpPr>
            <p:grpSpPr>
              <a:xfrm>
                <a:off x="549360" y="2809800"/>
                <a:ext cx="3444840" cy="446040"/>
                <a:chOff x="549360" y="2809800"/>
                <a:chExt cx="3444840" cy="4460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49360" y="2809800"/>
                  <a:ext cx="34448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7" name=""/>
                <p:cNvGrpSpPr/>
                <p:nvPr/>
              </p:nvGrpSpPr>
              <p:grpSpPr>
                <a:xfrm>
                  <a:off x="549360" y="2809800"/>
                  <a:ext cx="3444840" cy="446040"/>
                  <a:chOff x="549360" y="2809800"/>
                  <a:chExt cx="3444840" cy="44604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628560" y="2809800"/>
                    <a:ext cx="32860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utre Europ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549360" y="2809800"/>
                    <a:ext cx="34448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0" name=""/>
              <p:cNvGrpSpPr/>
              <p:nvPr/>
            </p:nvGrpSpPr>
            <p:grpSpPr>
              <a:xfrm>
                <a:off x="3995640" y="2809800"/>
                <a:ext cx="2398680" cy="446040"/>
                <a:chOff x="3995640" y="2809800"/>
                <a:chExt cx="2398680" cy="4460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3995640" y="2809800"/>
                  <a:ext cx="239868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2" name=""/>
                <p:cNvGrpSpPr/>
                <p:nvPr/>
              </p:nvGrpSpPr>
              <p:grpSpPr>
                <a:xfrm>
                  <a:off x="3995640" y="2809800"/>
                  <a:ext cx="2397240" cy="446040"/>
                  <a:chOff x="3995640" y="2809800"/>
                  <a:chExt cx="2397240" cy="4460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4075200" y="2809800"/>
                    <a:ext cx="223812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,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3995640" y="2809800"/>
                    <a:ext cx="23972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5" name=""/>
              <p:cNvGrpSpPr/>
              <p:nvPr/>
            </p:nvGrpSpPr>
            <p:grpSpPr>
              <a:xfrm>
                <a:off x="6394320" y="2809800"/>
                <a:ext cx="2127240" cy="446040"/>
                <a:chOff x="6394320" y="2809800"/>
                <a:chExt cx="2127240" cy="4460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394320" y="2809800"/>
                  <a:ext cx="21272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7" name=""/>
                <p:cNvGrpSpPr/>
                <p:nvPr/>
              </p:nvGrpSpPr>
              <p:grpSpPr>
                <a:xfrm>
                  <a:off x="6394320" y="2809800"/>
                  <a:ext cx="2125800" cy="446040"/>
                  <a:chOff x="6394320" y="2809800"/>
                  <a:chExt cx="2125800" cy="44604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6473880" y="2809800"/>
                    <a:ext cx="19666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 0,5 %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6394320" y="2809800"/>
                    <a:ext cx="212580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0" name=""/>
              <p:cNvGrpSpPr/>
              <p:nvPr/>
            </p:nvGrpSpPr>
            <p:grpSpPr>
              <a:xfrm>
                <a:off x="549360" y="3255840"/>
                <a:ext cx="3444840" cy="446040"/>
                <a:chOff x="549360" y="3255840"/>
                <a:chExt cx="3444840" cy="4460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49360" y="3255840"/>
                  <a:ext cx="34448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2" name=""/>
                <p:cNvGrpSpPr/>
                <p:nvPr/>
              </p:nvGrpSpPr>
              <p:grpSpPr>
                <a:xfrm>
                  <a:off x="549360" y="3255840"/>
                  <a:ext cx="3444840" cy="446040"/>
                  <a:chOff x="549360" y="3255840"/>
                  <a:chExt cx="3444840" cy="44604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628560" y="3255840"/>
                    <a:ext cx="32860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frique du Nord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549360" y="3255840"/>
                    <a:ext cx="34448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5" name=""/>
              <p:cNvGrpSpPr/>
              <p:nvPr/>
            </p:nvGrpSpPr>
            <p:grpSpPr>
              <a:xfrm>
                <a:off x="3995640" y="3255840"/>
                <a:ext cx="2398680" cy="446040"/>
                <a:chOff x="3995640" y="3255840"/>
                <a:chExt cx="2398680" cy="4460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3995640" y="3255840"/>
                  <a:ext cx="239868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3995640" y="3255840"/>
                  <a:ext cx="2397240" cy="446040"/>
                  <a:chOff x="3995640" y="3255840"/>
                  <a:chExt cx="2397240" cy="44604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4075200" y="3255840"/>
                    <a:ext cx="223812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,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3995640" y="3255840"/>
                    <a:ext cx="23972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" name=""/>
              <p:cNvGrpSpPr/>
              <p:nvPr/>
            </p:nvGrpSpPr>
            <p:grpSpPr>
              <a:xfrm>
                <a:off x="6394320" y="3255840"/>
                <a:ext cx="2127240" cy="446040"/>
                <a:chOff x="6394320" y="3255840"/>
                <a:chExt cx="2127240" cy="44604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6394320" y="3255840"/>
                  <a:ext cx="21272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2" name=""/>
                <p:cNvGrpSpPr/>
                <p:nvPr/>
              </p:nvGrpSpPr>
              <p:grpSpPr>
                <a:xfrm>
                  <a:off x="6394320" y="3255840"/>
                  <a:ext cx="2125800" cy="446040"/>
                  <a:chOff x="6394320" y="3255840"/>
                  <a:chExt cx="2125800" cy="44604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>
                    <a:off x="6473880" y="3255840"/>
                    <a:ext cx="19666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 20,4 %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6394320" y="3255840"/>
                    <a:ext cx="212580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5" name=""/>
              <p:cNvGrpSpPr/>
              <p:nvPr/>
            </p:nvGrpSpPr>
            <p:grpSpPr>
              <a:xfrm>
                <a:off x="549360" y="3701880"/>
                <a:ext cx="3444840" cy="446400"/>
                <a:chOff x="549360" y="3701880"/>
                <a:chExt cx="3444840" cy="4464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549360" y="3701880"/>
                  <a:ext cx="3444840" cy="446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7" name=""/>
                <p:cNvGrpSpPr/>
                <p:nvPr/>
              </p:nvGrpSpPr>
              <p:grpSpPr>
                <a:xfrm>
                  <a:off x="549360" y="3701880"/>
                  <a:ext cx="3444840" cy="446400"/>
                  <a:chOff x="549360" y="3701880"/>
                  <a:chExt cx="3444840" cy="44640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628560" y="3701880"/>
                    <a:ext cx="3286080" cy="446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utre Afriqu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49360" y="3701880"/>
                    <a:ext cx="3444840" cy="44640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0" name=""/>
              <p:cNvGrpSpPr/>
              <p:nvPr/>
            </p:nvGrpSpPr>
            <p:grpSpPr>
              <a:xfrm>
                <a:off x="3995640" y="3701880"/>
                <a:ext cx="2398680" cy="446400"/>
                <a:chOff x="3995640" y="3701880"/>
                <a:chExt cx="2398680" cy="4464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3995640" y="3701880"/>
                  <a:ext cx="2398680" cy="446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2" name=""/>
                <p:cNvGrpSpPr/>
                <p:nvPr/>
              </p:nvGrpSpPr>
              <p:grpSpPr>
                <a:xfrm>
                  <a:off x="3995640" y="3701880"/>
                  <a:ext cx="2397240" cy="446400"/>
                  <a:chOff x="3995640" y="3701880"/>
                  <a:chExt cx="2397240" cy="44640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4075200" y="3701880"/>
                    <a:ext cx="2238120" cy="446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,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3995640" y="3701880"/>
                    <a:ext cx="2397240" cy="44640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5" name=""/>
              <p:cNvGrpSpPr/>
              <p:nvPr/>
            </p:nvGrpSpPr>
            <p:grpSpPr>
              <a:xfrm>
                <a:off x="6394320" y="3701880"/>
                <a:ext cx="2127240" cy="446400"/>
                <a:chOff x="6394320" y="3701880"/>
                <a:chExt cx="2127240" cy="44640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6394320" y="3701880"/>
                  <a:ext cx="2127240" cy="446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"/>
                <p:cNvGrpSpPr/>
                <p:nvPr/>
              </p:nvGrpSpPr>
              <p:grpSpPr>
                <a:xfrm>
                  <a:off x="6394320" y="3701880"/>
                  <a:ext cx="2125800" cy="446400"/>
                  <a:chOff x="6394320" y="3701880"/>
                  <a:chExt cx="2125800" cy="4464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473880" y="3701880"/>
                    <a:ext cx="1966680" cy="446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 6,4 %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394320" y="3701880"/>
                    <a:ext cx="2125800" cy="44640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0" name=""/>
              <p:cNvGrpSpPr/>
              <p:nvPr/>
            </p:nvGrpSpPr>
            <p:grpSpPr>
              <a:xfrm>
                <a:off x="549360" y="4148280"/>
                <a:ext cx="3444840" cy="446040"/>
                <a:chOff x="549360" y="4148280"/>
                <a:chExt cx="3444840" cy="4460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49360" y="4148280"/>
                  <a:ext cx="34448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2" name=""/>
                <p:cNvGrpSpPr/>
                <p:nvPr/>
              </p:nvGrpSpPr>
              <p:grpSpPr>
                <a:xfrm>
                  <a:off x="549360" y="4148280"/>
                  <a:ext cx="3444840" cy="446040"/>
                  <a:chOff x="549360" y="4148280"/>
                  <a:chExt cx="3444840" cy="44604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628560" y="4148280"/>
                    <a:ext cx="32860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mérique du Nord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549360" y="4148280"/>
                    <a:ext cx="34448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5" name=""/>
              <p:cNvGrpSpPr/>
              <p:nvPr/>
            </p:nvGrpSpPr>
            <p:grpSpPr>
              <a:xfrm>
                <a:off x="3995640" y="4148280"/>
                <a:ext cx="2398680" cy="446040"/>
                <a:chOff x="3995640" y="4148280"/>
                <a:chExt cx="2398680" cy="4460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3995640" y="4148280"/>
                  <a:ext cx="239868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"/>
                <p:cNvGrpSpPr/>
                <p:nvPr/>
              </p:nvGrpSpPr>
              <p:grpSpPr>
                <a:xfrm>
                  <a:off x="3995640" y="4148280"/>
                  <a:ext cx="2397240" cy="446040"/>
                  <a:chOff x="3995640" y="4148280"/>
                  <a:chExt cx="2397240" cy="44604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4075200" y="4148280"/>
                    <a:ext cx="223812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,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3995640" y="4148280"/>
                    <a:ext cx="23972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0" name=""/>
              <p:cNvGrpSpPr/>
              <p:nvPr/>
            </p:nvGrpSpPr>
            <p:grpSpPr>
              <a:xfrm>
                <a:off x="6394320" y="4148280"/>
                <a:ext cx="2127240" cy="446040"/>
                <a:chOff x="6394320" y="4148280"/>
                <a:chExt cx="2127240" cy="44604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6394320" y="4148280"/>
                  <a:ext cx="21272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2" name=""/>
                <p:cNvGrpSpPr/>
                <p:nvPr/>
              </p:nvGrpSpPr>
              <p:grpSpPr>
                <a:xfrm>
                  <a:off x="6394320" y="4148280"/>
                  <a:ext cx="2125800" cy="446040"/>
                  <a:chOff x="6394320" y="4148280"/>
                  <a:chExt cx="2125800" cy="44604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6473880" y="4148280"/>
                    <a:ext cx="19666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 12,3 %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6394320" y="4148280"/>
                    <a:ext cx="212580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5" name=""/>
              <p:cNvGrpSpPr/>
              <p:nvPr/>
            </p:nvGrpSpPr>
            <p:grpSpPr>
              <a:xfrm>
                <a:off x="549360" y="4594320"/>
                <a:ext cx="3444840" cy="446040"/>
                <a:chOff x="549360" y="4594320"/>
                <a:chExt cx="3444840" cy="4460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549360" y="4594320"/>
                  <a:ext cx="34448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7" name=""/>
                <p:cNvGrpSpPr/>
                <p:nvPr/>
              </p:nvGrpSpPr>
              <p:grpSpPr>
                <a:xfrm>
                  <a:off x="549360" y="4594320"/>
                  <a:ext cx="3444840" cy="446040"/>
                  <a:chOff x="549360" y="4594320"/>
                  <a:chExt cx="3444840" cy="4460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628560" y="4594320"/>
                    <a:ext cx="32860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mérique Latine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49360" y="4594320"/>
                    <a:ext cx="34448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0" name=""/>
              <p:cNvGrpSpPr/>
              <p:nvPr/>
            </p:nvGrpSpPr>
            <p:grpSpPr>
              <a:xfrm>
                <a:off x="3995640" y="4594320"/>
                <a:ext cx="2398680" cy="446040"/>
                <a:chOff x="3995640" y="4594320"/>
                <a:chExt cx="2398680" cy="4460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995640" y="4594320"/>
                  <a:ext cx="239868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2" name=""/>
                <p:cNvGrpSpPr/>
                <p:nvPr/>
              </p:nvGrpSpPr>
              <p:grpSpPr>
                <a:xfrm>
                  <a:off x="3995640" y="4594320"/>
                  <a:ext cx="2397240" cy="446040"/>
                  <a:chOff x="3995640" y="4594320"/>
                  <a:chExt cx="2397240" cy="44604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4075200" y="4594320"/>
                    <a:ext cx="223812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,4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3995640" y="4594320"/>
                    <a:ext cx="23972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5" name=""/>
              <p:cNvGrpSpPr/>
              <p:nvPr/>
            </p:nvGrpSpPr>
            <p:grpSpPr>
              <a:xfrm>
                <a:off x="6394320" y="4594320"/>
                <a:ext cx="2127240" cy="446040"/>
                <a:chOff x="6394320" y="4594320"/>
                <a:chExt cx="2127240" cy="4460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6394320" y="4594320"/>
                  <a:ext cx="21272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"/>
                <p:cNvGrpSpPr/>
                <p:nvPr/>
              </p:nvGrpSpPr>
              <p:grpSpPr>
                <a:xfrm>
                  <a:off x="6394320" y="4594320"/>
                  <a:ext cx="2125800" cy="446040"/>
                  <a:chOff x="6394320" y="4594320"/>
                  <a:chExt cx="2125800" cy="4460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6473880" y="4594320"/>
                    <a:ext cx="19666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 17,0 %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6394320" y="4594320"/>
                    <a:ext cx="212580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0" name=""/>
              <p:cNvGrpSpPr/>
              <p:nvPr/>
            </p:nvGrpSpPr>
            <p:grpSpPr>
              <a:xfrm>
                <a:off x="549360" y="5040360"/>
                <a:ext cx="3444840" cy="446040"/>
                <a:chOff x="549360" y="5040360"/>
                <a:chExt cx="3444840" cy="44604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49360" y="5040360"/>
                  <a:ext cx="34448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2" name=""/>
                <p:cNvGrpSpPr/>
                <p:nvPr/>
              </p:nvGrpSpPr>
              <p:grpSpPr>
                <a:xfrm>
                  <a:off x="549360" y="5040360"/>
                  <a:ext cx="3444840" cy="446040"/>
                  <a:chOff x="549360" y="5040360"/>
                  <a:chExt cx="3444840" cy="44604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628560" y="5040360"/>
                    <a:ext cx="32860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om-TOM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549360" y="5040360"/>
                    <a:ext cx="34448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5" name=""/>
              <p:cNvGrpSpPr/>
              <p:nvPr/>
            </p:nvGrpSpPr>
            <p:grpSpPr>
              <a:xfrm>
                <a:off x="3995640" y="5040360"/>
                <a:ext cx="2398680" cy="446040"/>
                <a:chOff x="3995640" y="5040360"/>
                <a:chExt cx="2398680" cy="44604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3995640" y="5040360"/>
                  <a:ext cx="239868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7" name=""/>
                <p:cNvGrpSpPr/>
                <p:nvPr/>
              </p:nvGrpSpPr>
              <p:grpSpPr>
                <a:xfrm>
                  <a:off x="3995640" y="5040360"/>
                  <a:ext cx="2397240" cy="446040"/>
                  <a:chOff x="3995640" y="5040360"/>
                  <a:chExt cx="2397240" cy="44604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4075200" y="5040360"/>
                    <a:ext cx="223812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,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3995640" y="5040360"/>
                    <a:ext cx="23972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0" name=""/>
              <p:cNvGrpSpPr/>
              <p:nvPr/>
            </p:nvGrpSpPr>
            <p:grpSpPr>
              <a:xfrm>
                <a:off x="6394320" y="5040360"/>
                <a:ext cx="2127240" cy="446040"/>
                <a:chOff x="6394320" y="5040360"/>
                <a:chExt cx="2127240" cy="44604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6394320" y="5040360"/>
                  <a:ext cx="21272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2" name=""/>
                <p:cNvGrpSpPr/>
                <p:nvPr/>
              </p:nvGrpSpPr>
              <p:grpSpPr>
                <a:xfrm>
                  <a:off x="6394320" y="5040360"/>
                  <a:ext cx="2125800" cy="446040"/>
                  <a:chOff x="6394320" y="5040360"/>
                  <a:chExt cx="2125800" cy="44604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>
                    <a:off x="6473880" y="5040360"/>
                    <a:ext cx="19666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 6,0 %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394320" y="5040360"/>
                    <a:ext cx="212580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5" name=""/>
              <p:cNvGrpSpPr/>
              <p:nvPr/>
            </p:nvGrpSpPr>
            <p:grpSpPr>
              <a:xfrm>
                <a:off x="549360" y="5486400"/>
                <a:ext cx="3444840" cy="446040"/>
                <a:chOff x="549360" y="5486400"/>
                <a:chExt cx="3444840" cy="44604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49360" y="5486400"/>
                  <a:ext cx="34448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7" name=""/>
                <p:cNvGrpSpPr/>
                <p:nvPr/>
              </p:nvGrpSpPr>
              <p:grpSpPr>
                <a:xfrm>
                  <a:off x="549360" y="5486400"/>
                  <a:ext cx="3444840" cy="446040"/>
                  <a:chOff x="549360" y="5486400"/>
                  <a:chExt cx="3444840" cy="44604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628560" y="5486400"/>
                    <a:ext cx="32860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Moyen-Orien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549360" y="5486400"/>
                    <a:ext cx="34448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0" name=""/>
              <p:cNvGrpSpPr/>
              <p:nvPr/>
            </p:nvGrpSpPr>
            <p:grpSpPr>
              <a:xfrm>
                <a:off x="3995640" y="5486400"/>
                <a:ext cx="2398680" cy="446040"/>
                <a:chOff x="3995640" y="5486400"/>
                <a:chExt cx="2398680" cy="44604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3995640" y="5486400"/>
                  <a:ext cx="239868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2" name=""/>
                <p:cNvGrpSpPr/>
                <p:nvPr/>
              </p:nvGrpSpPr>
              <p:grpSpPr>
                <a:xfrm>
                  <a:off x="3995640" y="5486400"/>
                  <a:ext cx="2397240" cy="446040"/>
                  <a:chOff x="3995640" y="5486400"/>
                  <a:chExt cx="2397240" cy="44604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>
                    <a:off x="4075200" y="5486400"/>
                    <a:ext cx="223812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,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3995640" y="5486400"/>
                    <a:ext cx="23972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6394320" y="5486400"/>
                <a:ext cx="2127240" cy="446040"/>
                <a:chOff x="6394320" y="5486400"/>
                <a:chExt cx="2127240" cy="44604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6394320" y="5486400"/>
                  <a:ext cx="21272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7" name=""/>
                <p:cNvGrpSpPr/>
                <p:nvPr/>
              </p:nvGrpSpPr>
              <p:grpSpPr>
                <a:xfrm>
                  <a:off x="6394320" y="5486400"/>
                  <a:ext cx="2125800" cy="446040"/>
                  <a:chOff x="6394320" y="5486400"/>
                  <a:chExt cx="2125800" cy="44604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6473880" y="5486400"/>
                    <a:ext cx="19666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 26,1 %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6394320" y="5486400"/>
                    <a:ext cx="212580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0" name=""/>
              <p:cNvGrpSpPr/>
              <p:nvPr/>
            </p:nvGrpSpPr>
            <p:grpSpPr>
              <a:xfrm>
                <a:off x="549360" y="5932440"/>
                <a:ext cx="3444840" cy="446040"/>
                <a:chOff x="549360" y="5932440"/>
                <a:chExt cx="3444840" cy="44604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49360" y="5932440"/>
                  <a:ext cx="34448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2" name=""/>
                <p:cNvGrpSpPr/>
                <p:nvPr/>
              </p:nvGrpSpPr>
              <p:grpSpPr>
                <a:xfrm>
                  <a:off x="549360" y="5932440"/>
                  <a:ext cx="3444840" cy="446040"/>
                  <a:chOff x="549360" y="5932440"/>
                  <a:chExt cx="3444840" cy="44604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628560" y="5932440"/>
                    <a:ext cx="32860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xtrême-Orient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549360" y="5932440"/>
                    <a:ext cx="34448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5" name=""/>
              <p:cNvGrpSpPr/>
              <p:nvPr/>
            </p:nvGrpSpPr>
            <p:grpSpPr>
              <a:xfrm>
                <a:off x="3995640" y="5932440"/>
                <a:ext cx="2398680" cy="446040"/>
                <a:chOff x="3995640" y="5932440"/>
                <a:chExt cx="2398680" cy="44604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3995640" y="5932440"/>
                  <a:ext cx="239868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7" name=""/>
                <p:cNvGrpSpPr/>
                <p:nvPr/>
              </p:nvGrpSpPr>
              <p:grpSpPr>
                <a:xfrm>
                  <a:off x="3995640" y="5932440"/>
                  <a:ext cx="2397240" cy="446040"/>
                  <a:chOff x="3995640" y="5932440"/>
                  <a:chExt cx="2397240" cy="44604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>
                    <a:off x="4075200" y="5932440"/>
                    <a:ext cx="223812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,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3995640" y="5932440"/>
                    <a:ext cx="239724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0" name=""/>
              <p:cNvGrpSpPr/>
              <p:nvPr/>
            </p:nvGrpSpPr>
            <p:grpSpPr>
              <a:xfrm>
                <a:off x="6394320" y="5932440"/>
                <a:ext cx="2127240" cy="446040"/>
                <a:chOff x="6394320" y="5932440"/>
                <a:chExt cx="2127240" cy="44604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6394320" y="5932440"/>
                  <a:ext cx="2127240" cy="446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2" name=""/>
                <p:cNvGrpSpPr/>
                <p:nvPr/>
              </p:nvGrpSpPr>
              <p:grpSpPr>
                <a:xfrm>
                  <a:off x="6394320" y="5932440"/>
                  <a:ext cx="2125800" cy="446040"/>
                  <a:chOff x="6394320" y="5932440"/>
                  <a:chExt cx="2125800" cy="44604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>
                    <a:off x="6473880" y="5932440"/>
                    <a:ext cx="1966680" cy="446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 9,1 %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6394320" y="5932440"/>
                    <a:ext cx="2125800" cy="4460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45" name=""/>
            <p:cNvSpPr/>
            <p:nvPr/>
          </p:nvSpPr>
          <p:spPr>
            <a:xfrm>
              <a:off x="539640" y="1341360"/>
              <a:ext cx="7993080" cy="5040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1535-EE19-487F-8999-DCEB30D7143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0080" y="274320"/>
            <a:ext cx="878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Un exemple de scénario : négawa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2195640" y="1709640"/>
            <a:ext cx="4733640" cy="463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362B-9E65-4F02-B6D9-BF93CAD3A4D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785960" y="-14400"/>
            <a:ext cx="5572080" cy="68868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04920" y="626760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égaw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E8E6-EC65-48A8-AACF-C6D45693B49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rois piliers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s objectifs clairement définis : la capacité de survie de l’espèce huma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espace de projet commun : le territoire dans ses dimensions physiques et huma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e approche énergétique rigoureuse et fer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négawa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6B48-FECC-4F3D-91A4-6CC243DE0BC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168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elques sites u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76200" y="1187280"/>
            <a:ext cx="839952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ttp://www.global-chance.org/index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ttp://www.negawatt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ttp://www.iea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ttp://fr.wikipedia.org/wiki/%C3%89nergie_en_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ttp://www.developpement-durable.gouv.fr/Donnees-de-reference,13355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ttp://ec.europa.eu/transport/white_paper/documents/doc/lb_texte_complet_fr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ttp://epp.eurostat.ec.europa.eu/portal/page/portal/energy/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7425-0F94-4AA2-9DA7-59FCB328FB15}" type="slidenum">
              <a:t>35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France : consommation en MTep</a:t>
            </a:r>
            <a:br>
              <a:rPr sz="40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consommation fina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6480000"/>
            <a:ext cx="53658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mmissariat général au développement durable : </a:t>
            </a: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pères Chiffres clés de l’énergie Octobre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52400" y="1482840"/>
          <a:ext cx="7559640" cy="4635000"/>
        </p:xfrm>
        <a:graphic>
          <a:graphicData uri="http://schemas.openxmlformats.org/drawingml/2006/table">
            <a:tbl>
              <a:tblPr/>
              <a:tblGrid>
                <a:gridCol w="4381560"/>
                <a:gridCol w="1589040"/>
                <a:gridCol w="1589040"/>
              </a:tblGrid>
              <a:tr h="5274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e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527760"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bon et cok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528120"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its pétrolier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4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27400"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z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6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528120"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ité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27400"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ouvelables thermiqu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528120"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13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527040"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 des fossi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,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9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23CE-DF06-4CB4-A735-4ED68C3DADC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40" y="274320"/>
            <a:ext cx="86868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Énergie : quatre questions insépar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6560" y="1886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b2b2b2"/>
                </a:solidFill>
                <a:latin typeface="Arial"/>
              </a:rPr>
              <a:t>Un besoin v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Les inégalités d'accè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b2b2b2"/>
                </a:solidFill>
                <a:latin typeface="Arial"/>
              </a:rPr>
              <a:t>Des ressources qui s’épui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b2b2b2"/>
                </a:solidFill>
                <a:latin typeface="Arial"/>
              </a:rPr>
              <a:t>L’équilibre de notre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9FD7-8D92-4C27-A5C9-C9FA7BF9DCB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Les inégalités d'accè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13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2 milliards de tonnes équivalent pétrole (Tep) :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1,8 tonnes par habita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3200" indent="-309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,6   Tep/hab pour les pays de l’OC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3200" indent="-309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,6   Tep/hab pour la Chine - 0,5 pour l'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3200" indent="-309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0,65 Tep pour le reste de l’Asie ou l’Af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3200" indent="-309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7,5   Tep pour les États-u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3200" indent="-309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0,15 Tep pour l’Érythrée, le Banglad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3200" indent="-309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France  :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4,2 Tep par habi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0FFF-1644-4F88-A77F-DD668AD68B3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Les inégalités d'accè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0 % de la population : 60 % des ressources énergétiques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0 % des pays les plus pauvres : 1 % de l’électricité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0 % des pays les plus riches : 45 % des ressources élect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C1F8-44C8-45C3-8525-AC5DA6A2679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6267600"/>
            <a:ext cx="181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i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440" y="274680"/>
            <a:ext cx="868680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2 en tonnes par habi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79640" y="1260360"/>
            <a:ext cx="4790880" cy="501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0980-86E6-4E8E-B2FC-C33392C9E56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40" y="274320"/>
            <a:ext cx="86868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Énergie : quatre questions insépar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6560" y="1886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b2b2b2"/>
                </a:solidFill>
                <a:latin typeface="Arial"/>
              </a:rPr>
              <a:t>Un besoin v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b2b2b2"/>
                </a:solidFill>
                <a:latin typeface="Arial"/>
              </a:rPr>
              <a:t>Les inégalités d'accè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Des ressources qui s’épui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just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b2b2b2"/>
                </a:solidFill>
                <a:latin typeface="Arial"/>
              </a:rPr>
              <a:t>L’équilibre de notre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F256-480E-4496-B6E0-1C263A76208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09:42:02Z</dcterms:created>
  <dc:creator>weber</dc:creator>
  <dc:description/>
  <dc:language>en-US</dc:language>
  <cp:lastModifiedBy>weber</cp:lastModifiedBy>
  <dcterms:modified xsi:type="dcterms:W3CDTF">2007-01-22T09:32:34Z</dcterms:modified>
  <cp:revision>44</cp:revision>
  <dc:subject/>
  <dc:title>Diapositive 1</dc:title>
</cp:coreProperties>
</file>